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701A395-1482-4D1F-85B8-B918962CF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587C22B-DADB-41E1-8639-40BCDD9E8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C00CC9B-7FA9-4627-B33A-2F53FB12444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95E4EBB-AF3C-40AC-A5A4-5A02D0DA60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BA36D-9456-42B4-8EA0-E4E18C0BC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431D8-0093-4348-881F-F06FCC868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4C6D6-4694-4370-B4A9-1D233BD66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65DA4-20F8-4421-B19A-B8A7A84FA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1D4ED-4AFF-4F96-AD30-B86D037B7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00E7C-2F7C-4DAE-AA57-28F4CB88B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AFEE0-DA54-47CA-B170-63A9B5652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D83C519-81B9-405F-99F2-8C4752768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6BDB8-889B-4395-9380-913C0BADD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A1D9E-530D-4327-B422-3C42FCF8C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55507-DE0C-4F76-9B86-B969A4C8B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CFDD0-A722-4484-A25F-5D3C5FA29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C5E8D-A850-42B5-8B30-DEEAE41BF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32248E7-D180-482F-A120-53CCF7D29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DE7C305-3820-41B4-8EAA-DE86DEC99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C1BCAE0-9210-4A97-8042-8D7963E41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6C39DBC-4B9B-476D-A2DC-9A8844887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12FA1F5-55B7-431F-B945-7E867F840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CBA60C3-6EC1-4150-96AF-165EE26ACC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2CFF78B-EC2E-4AAB-8177-59A5E64A1E3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725A-B4DB-485C-841D-1FBBC30E97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0D49-F240-4F5C-B855-13A8247F54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hinksrs.com/products/PRS10.htm" TargetMode="External"/><Relationship Id="rId3" Type="http://schemas.openxmlformats.org/officeDocument/2006/relationships/image" Target="../media/image1.png"/><Relationship Id="rId4" Type="http://schemas.openxmlformats.org/officeDocument/2006/relationships/hyperlink" Target="http://www.febo.com/time-freq/index.html"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ef6"/>
                </a:solidFill>
                <a:latin typeface="Arial"/>
              </a:rPr>
              <a:t>Theory and Practice</a:t>
            </a:r>
            <a:br>
              <a:rPr sz="4800"/>
            </a:br>
            <a:r>
              <a:rPr b="0" lang="en-US" sz="4800" spc="-1" strike="noStrike">
                <a:solidFill>
                  <a:srgbClr val="dfdef6"/>
                </a:solidFill>
                <a:latin typeface="Arial"/>
              </a:rPr>
              <a:t>of</a:t>
            </a:r>
            <a:br>
              <a:rPr sz="4800"/>
            </a:br>
            <a:r>
              <a:rPr b="0" lang="en-US" sz="4800" spc="-1" strike="noStrike">
                <a:solidFill>
                  <a:srgbClr val="dfdef6"/>
                </a:solidFill>
                <a:latin typeface="Arial"/>
              </a:rPr>
              <a:t>Rb Frequency Standards</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ug Millar K6JE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B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b Ephemeris</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diurnal effects on frequency</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ly stability can be 2e-12/mo.</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average frequency can be parts in 10e-1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Advantages of an Rb Over an OCXO</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need for calibrat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greater stability in the field.</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affected by temperature and vibra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sensitivity to voltage chang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Rb’s a better gamble than used OCX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w does an Rb Work?</a:t>
            </a:r>
            <a:endParaRPr b="0" lang="en-US" sz="4400" spc="-1" strike="noStrike">
              <a:solidFill>
                <a:srgbClr val="dfdef6"/>
              </a:solidFill>
              <a:latin typeface="Arial"/>
            </a:endParaRPr>
          </a:p>
        </p:txBody>
      </p:sp>
      <p:sp>
        <p:nvSpPr>
          <p:cNvPr id="535" name="PlaceHolder 2"/>
          <p:cNvSpPr>
            <a:spLocks noGrp="1"/>
          </p:cNvSpPr>
          <p:nvPr>
            <p:ph/>
          </p:nvPr>
        </p:nvSpPr>
        <p:spPr>
          <a:xfrm>
            <a:off x="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y, the “atomic package” has a  lamp with Rb</a:t>
            </a:r>
            <a:r>
              <a:rPr b="0" lang="en-US" sz="3200" spc="-1" strike="noStrike" baseline="30000">
                <a:solidFill>
                  <a:srgbClr val="ffffff"/>
                </a:solidFill>
                <a:latin typeface="Arial"/>
              </a:rPr>
              <a:t>87</a:t>
            </a:r>
            <a:r>
              <a:rPr b="0" lang="en-US" sz="3200" spc="-1" strike="noStrike">
                <a:solidFill>
                  <a:srgbClr val="ffffff"/>
                </a:solidFill>
                <a:latin typeface="Arial"/>
              </a:rPr>
              <a:t> gas in it that is heated by RF.</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b radiation is sent through a chamber with Rb</a:t>
            </a:r>
            <a:r>
              <a:rPr b="0" lang="en-US" sz="3200" spc="-1" strike="noStrike" baseline="30000">
                <a:solidFill>
                  <a:srgbClr val="ffffff"/>
                </a:solidFill>
                <a:latin typeface="Arial"/>
              </a:rPr>
              <a:t>87</a:t>
            </a:r>
            <a:r>
              <a:rPr b="0" lang="en-US" sz="3200" spc="-1" strike="noStrike">
                <a:solidFill>
                  <a:srgbClr val="ffffff"/>
                </a:solidFill>
                <a:latin typeface="Arial"/>
              </a:rPr>
              <a:t> in it .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hoto cell on the far side detects the amount of light reaching it.</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chamber is fed with RF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6.834,685Ghz the light level chan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3840"/>
            <a:ext cx="6095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37" name="PlaceHolder 2"/>
          <p:cNvSpPr>
            <a:spLocks noGrp="1"/>
          </p:cNvSpPr>
          <p:nvPr>
            <p:ph/>
          </p:nvPr>
        </p:nvSpPr>
        <p:spPr>
          <a:xfrm>
            <a:off x="304920" y="380520"/>
            <a:ext cx="8229600" cy="61722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tocell is servoed to the oscillator and the oscillator is kept at the null in intensity. A 10mhz oscillator is linked to the servo and the stability of the null is reflected in the 10mhz outpu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ysics package has to be calibrated when it is built and has to be recalibrated as factors change in the physics package.</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ing on how robust you make the physics package the oscillator and lamp will last longer and be more tolerant of outside forces like magnetism and temperature.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libration mechanism is to change the C field, which is a coil around the package that effects the Rb gas resonan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lock Diagram of a PRS 10</a:t>
            </a:r>
            <a:endParaRPr b="0" lang="en-US" sz="4400" spc="-1" strike="noStrike">
              <a:solidFill>
                <a:srgbClr val="dfdef6"/>
              </a:solidFill>
              <a:latin typeface="Arial"/>
            </a:endParaRPr>
          </a:p>
        </p:txBody>
      </p:sp>
      <p:pic>
        <p:nvPicPr>
          <p:cNvPr id="539" name="" descr=""/>
          <p:cNvPicPr/>
          <p:nvPr/>
        </p:nvPicPr>
        <p:blipFill>
          <a:blip r:embed="rId1"/>
          <a:stretch/>
        </p:blipFill>
        <p:spPr>
          <a:xfrm>
            <a:off x="457200" y="1600200"/>
            <a:ext cx="8229600" cy="45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28600" y="609120"/>
            <a:ext cx="8229600" cy="4534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ractice Rb’s are so tough some have been space qualified.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an ordinary life of 15-20 year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eeping track of the lamp voltage, one can chart how old the Rb is getting.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than the lamp itself little else seems to go wro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Now Some Details about </a:t>
            </a:r>
            <a:br>
              <a:rPr sz="4000"/>
            </a:br>
            <a:r>
              <a:rPr b="0" lang="en-US" sz="4000" spc="-1" strike="noStrike">
                <a:solidFill>
                  <a:srgbClr val="dfdef6"/>
                </a:solidFill>
                <a:latin typeface="Arial"/>
              </a:rPr>
              <a:t>Three Types of Rb’s</a:t>
            </a:r>
            <a:endParaRPr b="0" lang="en-US" sz="40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fratom FRK –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1970’s technology)</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ratom LPRO-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 and inexpensive</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ford Research Associates PRS 10-</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and well engineered.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nsiv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fratom FRK</a:t>
            </a:r>
            <a:endParaRPr b="0" lang="en-US" sz="4400" spc="-1" strike="noStrike">
              <a:solidFill>
                <a:srgbClr val="dfdef6"/>
              </a:solidFill>
              <a:latin typeface="Arial"/>
            </a:endParaRPr>
          </a:p>
        </p:txBody>
      </p:sp>
      <p:sp>
        <p:nvSpPr>
          <p:cNvPr id="544" name="PlaceHolder 2"/>
          <p:cNvSpPr>
            <a:spLocks noGrp="1"/>
          </p:cNvSpPr>
          <p:nvPr>
            <p:ph/>
          </p:nvPr>
        </p:nvSpPr>
        <p:spPr>
          <a:xfrm>
            <a:off x="380880" y="232416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RK series were the best of the original types. All analogue, brute force physics package and well shielded. All discreet components. Mine still works fine. They are big in comparison to the LPRO. TTL or Sinewave outpu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probably the most stable Rb’s next to the PRS 10.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S-C is a miniature version and is more susceptible to magnetics and a little less stable.</a:t>
            </a:r>
            <a:endParaRPr b="0" lang="en-US" sz="2800" spc="-1" strike="noStrike">
              <a:solidFill>
                <a:srgbClr val="ffffff"/>
              </a:solidFill>
              <a:latin typeface="Arial"/>
            </a:endParaRPr>
          </a:p>
        </p:txBody>
      </p:sp>
      <p:pic>
        <p:nvPicPr>
          <p:cNvPr id="545" name="" descr=""/>
          <p:cNvPicPr/>
          <p:nvPr/>
        </p:nvPicPr>
        <p:blipFill>
          <a:blip r:embed="rId4"/>
          <a:stretch/>
        </p:blipFill>
        <p:spPr>
          <a:xfrm>
            <a:off x="6705720" y="152280"/>
            <a:ext cx="2200320" cy="226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LPRO Rb</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mble originally made them to be inexpensive, robust and maintenance fre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esigned it for 10 year full time service life.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an ultra small physics package and a lesser amount of Rb</a:t>
            </a:r>
            <a:r>
              <a:rPr b="0" lang="en-US" sz="3200" spc="-1" strike="noStrike" baseline="30000">
                <a:solidFill>
                  <a:srgbClr val="ffffff"/>
                </a:solidFill>
                <a:latin typeface="Arial"/>
              </a:rPr>
              <a:t>87</a:t>
            </a:r>
            <a:r>
              <a:rPr b="0" lang="en-US" sz="3200" spc="-1" strike="noStrike">
                <a:solidFill>
                  <a:srgbClr val="ffffff"/>
                </a:solidFill>
                <a:latin typeface="Arial"/>
              </a:rPr>
              <a:t> loaded in them.</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 is very reasonable. Eg. If yours dies, get another o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609480" y="1066680"/>
            <a:ext cx="8153640" cy="5038920"/>
          </a:xfrm>
          <a:prstGeom prst="rect">
            <a:avLst/>
          </a:prstGeom>
          <a:ln w="0">
            <a:noFill/>
          </a:ln>
        </p:spPr>
      </p:pic>
      <p:sp>
        <p:nvSpPr>
          <p:cNvPr id="549" name=""/>
          <p:cNvSpPr/>
          <p:nvPr/>
        </p:nvSpPr>
        <p:spPr>
          <a:xfrm>
            <a:off x="2057400" y="152280"/>
            <a:ext cx="169236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2895480" y="457200"/>
            <a:ext cx="266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PRO Inside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formation</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 general talk about Rubidium Oscillators and meant for those who have just bought their LPRO oscillators. I have had to strike a balance between technical information and practical information. The workings of “atomic clocks” are very interesting. Consult the sources listed bel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S 10 Assets</a:t>
            </a:r>
            <a:endParaRPr b="0" lang="en-US" sz="4400" spc="-1" strike="noStrike">
              <a:solidFill>
                <a:srgbClr val="dfdef6"/>
              </a:solidFill>
              <a:latin typeface="Arial"/>
            </a:endParaRPr>
          </a:p>
        </p:txBody>
      </p:sp>
      <p:sp>
        <p:nvSpPr>
          <p:cNvPr id="5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a 20 year lamp lif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n internal CPU that estimates a 72hour hold-over. Turn it off and on and it comes right back to frequency.</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0db/hz @10hz Phase noise</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S 232 communications to and from Rb</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st $1400  ($400 surpl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PRS 10 Inside is Busy</a:t>
            </a:r>
            <a:endParaRPr b="0" lang="en-US" sz="4400" spc="-1" strike="noStrike">
              <a:solidFill>
                <a:srgbClr val="dfdef6"/>
              </a:solidFill>
              <a:latin typeface="Arial"/>
            </a:endParaRPr>
          </a:p>
        </p:txBody>
      </p:sp>
      <p:grpSp>
        <p:nvGrpSpPr>
          <p:cNvPr id="554" name=""/>
          <p:cNvGrpSpPr/>
          <p:nvPr/>
        </p:nvGrpSpPr>
        <p:grpSpPr>
          <a:xfrm>
            <a:off x="1143000" y="1600200"/>
            <a:ext cx="6629400" cy="4533840"/>
            <a:chOff x="1143000" y="1600200"/>
            <a:chExt cx="6629400" cy="4533840"/>
          </a:xfrm>
        </p:grpSpPr>
        <p:pic>
          <p:nvPicPr>
            <p:cNvPr id="555" name="" descr=""/>
            <p:cNvPicPr/>
            <p:nvPr/>
          </p:nvPicPr>
          <p:blipFill>
            <a:blip r:embed="rId1"/>
            <a:stretch/>
          </p:blipFill>
          <p:spPr>
            <a:xfrm>
              <a:off x="1143000" y="1600200"/>
              <a:ext cx="6629400" cy="4533840"/>
            </a:xfrm>
            <a:prstGeom prst="rect">
              <a:avLst/>
            </a:prstGeom>
            <a:ln w="0">
              <a:noFill/>
            </a:ln>
          </p:spPr>
        </p:pic>
        <p:sp>
          <p:nvSpPr>
            <p:cNvPr id="556" name=""/>
            <p:cNvSpPr txBox="1"/>
            <p:nvPr/>
          </p:nvSpPr>
          <p:spPr>
            <a:xfrm>
              <a:off x="1143000" y="1600200"/>
              <a:ext cx="6629400" cy="4533840"/>
            </a:xfrm>
            <a:prstGeom prst="rect">
              <a:avLst/>
            </a:prstGeom>
            <a:noFill/>
            <a:ln w="0">
              <a:noFill/>
            </a:ln>
          </p:spPr>
          <p:txBody>
            <a:bodyPr lIns="90000" rIns="90000" tIns="46800" bIns="46800" anchor="t">
              <a:normAutofit/>
            </a:bodyPr>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S 10 Without Boards</a:t>
            </a:r>
            <a:endParaRPr b="0" lang="en-US" sz="4400" spc="-1" strike="noStrike">
              <a:solidFill>
                <a:srgbClr val="dfdef6"/>
              </a:solidFill>
              <a:latin typeface="Arial"/>
            </a:endParaRPr>
          </a:p>
        </p:txBody>
      </p:sp>
      <p:pic>
        <p:nvPicPr>
          <p:cNvPr id="558" name="" descr=""/>
          <p:cNvPicPr/>
          <p:nvPr/>
        </p:nvPicPr>
        <p:blipFill>
          <a:blip r:embed="rId1"/>
          <a:stretch/>
        </p:blipFill>
        <p:spPr>
          <a:xfrm>
            <a:off x="457200" y="1600200"/>
            <a:ext cx="7543800" cy="4533840"/>
          </a:xfrm>
          <a:prstGeom prst="rect">
            <a:avLst/>
          </a:prstGeom>
          <a:ln w="0">
            <a:noFill/>
          </a:ln>
        </p:spPr>
      </p:pic>
      <p:sp>
        <p:nvSpPr>
          <p:cNvPr id="559" name=""/>
          <p:cNvSpPr/>
          <p:nvPr/>
        </p:nvSpPr>
        <p:spPr>
          <a:xfrm>
            <a:off x="3200400" y="243828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p     Physics</a:t>
            </a:r>
            <a:endParaRPr b="0" lang="en-US" sz="2000" spc="-1" strike="noStrike">
              <a:solidFill>
                <a:srgbClr val="ffffff"/>
              </a:solidFill>
              <a:latin typeface="Arial"/>
            </a:endParaRPr>
          </a:p>
        </p:txBody>
      </p:sp>
      <p:sp>
        <p:nvSpPr>
          <p:cNvPr id="560" name=""/>
          <p:cNvSpPr/>
          <p:nvPr/>
        </p:nvSpPr>
        <p:spPr>
          <a:xfrm>
            <a:off x="3200400" y="24382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p  Physics P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at is the Difference?</a:t>
            </a:r>
            <a:endParaRPr b="0" lang="en-US" sz="4400" spc="-1" strike="noStrike">
              <a:solidFill>
                <a:srgbClr val="dfdef6"/>
              </a:solidFill>
              <a:latin typeface="Arial"/>
            </a:endParaRPr>
          </a:p>
        </p:txBody>
      </p:sp>
      <p:sp>
        <p:nvSpPr>
          <p:cNvPr id="5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other station’s point of view, all of them will keep you within 10hz for a month at 10,368.125,000mhz.</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PRO’s are cheap and plentiful, others are more expensive and/or older.</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use of any Rb will dramatically improve your rig’s stability, but the LPRO does represent an inexpensive choi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e and Feeding</a:t>
            </a:r>
            <a:endParaRPr b="0" lang="en-US" sz="4400" spc="-1" strike="noStrike">
              <a:solidFill>
                <a:srgbClr val="dfdef6"/>
              </a:solidFill>
              <a:latin typeface="Arial"/>
            </a:endParaRPr>
          </a:p>
        </p:txBody>
      </p:sp>
      <p:sp>
        <p:nvSpPr>
          <p:cNvPr id="56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your power supply is filtered.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it away from strong magnetic field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 sun shade if used portable.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heat sink. Almost any base plate will do. The internal regulator is 17v, so a supply of about 20v will dissipate less heat than higher voltages.</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down the lamp voltage and crystal voltage for trend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 Operation</a:t>
            </a:r>
            <a:endParaRPr b="0" lang="en-US" sz="4400" spc="-1" strike="noStrike">
              <a:solidFill>
                <a:srgbClr val="dfdef6"/>
              </a:solidFill>
              <a:latin typeface="Arial"/>
            </a:endParaRPr>
          </a:p>
        </p:txBody>
      </p:sp>
      <p:sp>
        <p:nvSpPr>
          <p:cNvPr id="5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Rb locks it will be about  1e-10. After 30 minutes it should be 1e-11. that means that you will be within 50hz at 10ghz at lock, and stabilize to better than 10hz in the next few minutes. </a:t>
            </a:r>
            <a:r>
              <a:rPr b="0" lang="en-US" sz="2400" spc="-1" strike="noStrike">
                <a:solidFill>
                  <a:srgbClr val="cc0099"/>
                </a:solidFill>
                <a:latin typeface="Arial"/>
              </a:rPr>
              <a:t>Do not attempt to adjust it unless you have a good time lab.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PRO’s lock after more than 2 minutes and go to better than 10e-10 at that time. Have a lock light to tell you when you are locked. A schematic for one is on the SBMS website.</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ight want to test your IF rig for stability to see how much it contributes to the total drift. Eg.You might want to get a TCXO for your FT 817.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rther Information</a:t>
            </a:r>
            <a:endParaRPr b="0" lang="en-US" sz="4400" spc="-1" strike="noStrike">
              <a:solidFill>
                <a:srgbClr val="dfdef6"/>
              </a:solidFill>
              <a:latin typeface="Arial"/>
            </a:endParaRPr>
          </a:p>
        </p:txBody>
      </p:sp>
      <p:sp>
        <p:nvSpPr>
          <p:cNvPr id="5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more information here are some resources.  A good spot is this site- go to the PRS 10  ad and look for the data sheet and manual.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9999ff"/>
                </a:solidFill>
                <a:uFillTx/>
                <a:latin typeface="Arial"/>
                <a:hlinkClick r:id="rId2"/>
              </a:rPr>
              <a:t>www.thinksrs.com/products/PRS10.htm</a:t>
            </a: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graphs were taken from:</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9999ff"/>
                </a:solidFill>
                <a:uFillTx/>
                <a:latin typeface="Arial"/>
                <a:hlinkClick r:id="rId4"/>
              </a:rPr>
              <a:t>www.febo.com/time-freq/index.htm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m’s website has excellent inf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BMS website has the LPRO manual and a lock light design: http://www.ham-radio.com/sb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9" name=""/>
          <p:cNvSpPr/>
          <p:nvPr/>
        </p:nvSpPr>
        <p:spPr>
          <a:xfrm>
            <a:off x="914400" y="1066680"/>
            <a:ext cx="777240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s</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ug K6JEY</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illar@moonlink.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istory of the Project</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uple of months ago Robin WA6CDR and I decided that we should try to acquire enough units of an inexpensive Rubidium (Rb) oscillator so that as many microwavers as possible could put them in their rigs. That way stability and accuracy could be improved for the group. We expected our initial order of 30 or so would be enough. We had that many orders in an hour. We are now up to 180 units and they are nearly spoken for.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nit is checked for proper operation and lock but not calibrated. Real calibration is a labor intensive job. However, we have found that the units are amazingly close in frequency and we are sure that you will not be able to tell one from the other in frequency in normal operation. </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unless you have experience and a  lab, do any adjustment on the oscillator.</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write down the lamp voltage and crystal voltage and check it once a year. </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nector is very comm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mparison of Oscillators</a:t>
            </a:r>
            <a:endParaRPr b="0" lang="en-US" sz="4400" spc="-1" strike="noStrike">
              <a:solidFill>
                <a:srgbClr val="dfdef6"/>
              </a:solidFill>
              <a:latin typeface="Arial"/>
            </a:endParaRPr>
          </a:p>
        </p:txBody>
      </p:sp>
      <p:graphicFrame>
        <p:nvGraphicFramePr>
          <p:cNvPr id="521" name=""/>
          <p:cNvGraphicFramePr/>
          <p:nvPr/>
        </p:nvGraphicFramePr>
        <p:xfrm>
          <a:off x="457200" y="1600200"/>
          <a:ext cx="8229240" cy="4533480"/>
        </p:xfrm>
        <a:graphic>
          <a:graphicData uri="http://schemas.openxmlformats.org/drawingml/2006/table">
            <a:tbl>
              <a:tblPr/>
              <a:tblGrid>
                <a:gridCol w="2057400"/>
                <a:gridCol w="2057040"/>
                <a:gridCol w="2057400"/>
                <a:gridCol w="205740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ium</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X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e-1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e-1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e-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e-11/M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e-10/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 Noi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0dbc</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0dbc</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0db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m Up</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mi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0mi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mi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e-1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e-1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e-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K</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b Stability Chart</a:t>
            </a: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rt is for an HP Rb</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hour is 3.6k second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day is 86.4k second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week is 601k second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days is 864k secon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685800" y="652320"/>
            <a:ext cx="8001000" cy="565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GPS Lock Data </a:t>
            </a:r>
            <a:br>
              <a:rPr sz="4000"/>
            </a:br>
            <a:r>
              <a:rPr b="0" lang="en-US" sz="4000" spc="-1" strike="noStrike">
                <a:solidFill>
                  <a:srgbClr val="dfdef6"/>
                </a:solidFill>
                <a:latin typeface="Arial"/>
              </a:rPr>
              <a:t>1 hour= 3.6k sec,1day = 86K sec</a:t>
            </a:r>
            <a:endParaRPr b="0" lang="en-US" sz="4000" spc="-1" strike="noStrike">
              <a:solidFill>
                <a:srgbClr val="dfdef6"/>
              </a:solidFill>
              <a:latin typeface="Arial"/>
            </a:endParaRPr>
          </a:p>
        </p:txBody>
      </p:sp>
      <p:pic>
        <p:nvPicPr>
          <p:cNvPr id="526" name="" descr=""/>
          <p:cNvPicPr/>
          <p:nvPr/>
        </p:nvPicPr>
        <p:blipFill>
          <a:blip r:embed="rId1"/>
          <a:stretch/>
        </p:blipFill>
        <p:spPr>
          <a:xfrm>
            <a:off x="457200" y="1600200"/>
            <a:ext cx="8229600" cy="453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teresting Variations</a:t>
            </a: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hart shows accuracy at 10e-12 and lower that occur over a period of time but that are not related to drift of the Rb. Some variations happen at the same time (midnight!) and may be temperature related.</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s are affected at these levels by forces that are not well known. Some effects have to do with the Rb gas mixes, which limits their accuracy in some situat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382680"/>
            <a:ext cx="8534160" cy="603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21:59:19Z</dcterms:created>
  <dc:creator>Douglas Millar</dc:creator>
  <dc:description/>
  <dc:language>en-US</dc:language>
  <cp:lastModifiedBy>C84202</cp:lastModifiedBy>
  <dcterms:modified xsi:type="dcterms:W3CDTF">2010-11-03T21:41:25Z</dcterms:modified>
  <cp:revision>28</cp:revision>
  <dc:subject/>
  <dc:title>Theory and Practic Rb Frequency Standards</dc:title>
</cp:coreProperties>
</file>