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20800"/>
            <a:ext cx="68515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20800"/>
            <a:ext cx="68515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华晨内版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-379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50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9520" indent="-253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9520" indent="-253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9520" indent="-253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086240" y="36144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7F98-F2B1-4CBB-AD3B-D9F9757BBC0A}" type="slidenum">
              <a:rPr b="0" lang="en-US" sz="16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050920" y="260280"/>
            <a:ext cx="252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</a:rPr>
              <a:t>一路有我　华晨汽车</a:t>
            </a:r>
            <a:endParaRPr b="0" lang="en-US" sz="17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57200" y="89388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1979640" y="26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华晨内版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050920" y="260280"/>
            <a:ext cx="252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</a:rPr>
              <a:t>一路有我　华晨汽车</a:t>
            </a:r>
            <a:endParaRPr b="0" lang="en-US" sz="17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979640" y="26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6851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-379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50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9520" indent="-253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9520" indent="-253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9520" indent="-253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618920" y="3948120"/>
            <a:ext cx="5257800" cy="111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990080"/>
            <a:ext cx="9144000" cy="3149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项目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钥匙进入及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钥匙启动系统培训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3419640" y="1125360"/>
            <a:ext cx="4143240" cy="5534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1080" y="1557360"/>
            <a:ext cx="7775640" cy="489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lnSpc>
                <a:spcPct val="100000"/>
              </a:lnSpc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控制器硬件架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836280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0"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智能卡：车内乘客舱前后排座椅都能检测到遥控器</a:t>
            </a: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;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司机门外有效距离是</a:t>
            </a: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1.5m;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内部有备用钥匙齿片用于应急情况</a:t>
            </a: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K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遥控上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锁功能。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钥匙进入车门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1701720" cy="216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 rot="20680200">
            <a:off x="5364000" y="4365720"/>
            <a:ext cx="1013040" cy="1679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3"/>
          <a:stretch/>
        </p:blipFill>
        <p:spPr>
          <a:xfrm rot="20707800">
            <a:off x="4932360" y="5013360"/>
            <a:ext cx="284040" cy="11937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5"/>
          <p:cNvSpPr/>
          <p:nvPr/>
        </p:nvSpPr>
        <p:spPr>
          <a:xfrm>
            <a:off x="6877080" y="4005360"/>
            <a:ext cx="1871640" cy="936360"/>
          </a:xfrm>
          <a:prstGeom prst="wedgeRoundRectCallout">
            <a:avLst>
              <a:gd name="adj1" fmla="val -88509"/>
              <a:gd name="adj2" fmla="val 19999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防盗芯片：用齿片点火时，需要将该芯片靠近防盗线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0mm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之内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7093080" y="5300640"/>
            <a:ext cx="1569960" cy="495360"/>
          </a:xfrm>
          <a:prstGeom prst="wedgeRoundRectCallout">
            <a:avLst>
              <a:gd name="adj1" fmla="val -132101"/>
              <a:gd name="adj2" fmla="val -78847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时将齿片拔出进行应急操作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8075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华文新魏"/>
                <a:ea typeface="华文新魏"/>
              </a:rPr>
              <a:t>3</a:t>
            </a:r>
            <a:r>
              <a:rPr b="1" lang="zh-CN" sz="22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天线检测功能：司机门进入，前排乘客门预留进入功能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天线分布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: 4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</a:t>
            </a:r>
            <a:r>
              <a:rPr b="0" lang="zh-CN" sz="2200" spc="-1" strike="noStrike">
                <a:solidFill>
                  <a:srgbClr val="990000"/>
                </a:solidFill>
                <a:latin typeface="Arial"/>
              </a:rPr>
              <a:t>外部天线对把车外手要求低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22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0" lang="zh-CN" sz="2200" spc="-1" strike="noStrike">
                <a:solidFill>
                  <a:srgbClr val="990000"/>
                </a:solidFill>
                <a:latin typeface="Arial"/>
              </a:rPr>
              <a:t>采用小开关按钮触发控制开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司机门内饰板</a:t>
            </a:r>
            <a:r>
              <a:rPr b="0" lang="en-US" sz="2200" spc="-1" strike="noStrike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控台内侧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排座中后方</a:t>
            </a:r>
            <a:r>
              <a:rPr b="0" lang="en-US" sz="2200" spc="-1" strike="noStrike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尺寸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1800" spc="-1" strike="noStrike">
                <a:solidFill>
                  <a:srgbClr val="990000"/>
                </a:solidFill>
                <a:latin typeface="华文行楷"/>
                <a:ea typeface="华文行楷"/>
              </a:rPr>
              <a:t>70mm×35mm×16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37432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807552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68360" y="1268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点火开关总成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91" name="Picture 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47640" y="2133720"/>
            <a:ext cx="3530880" cy="311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1740240" cy="17017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4"/>
          <p:cNvSpPr/>
          <p:nvPr/>
        </p:nvSpPr>
        <p:spPr>
          <a:xfrm>
            <a:off x="5219640" y="1484280"/>
            <a:ext cx="2286000" cy="593640"/>
          </a:xfrm>
          <a:prstGeom prst="wedgeRoundRectCallout">
            <a:avLst>
              <a:gd name="adj1" fmla="val -136250"/>
              <a:gd name="adj2" fmla="val 273527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点火旋钮（顺时针旋转）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7451640" y="2492280"/>
            <a:ext cx="1371600" cy="495360"/>
          </a:xfrm>
          <a:prstGeom prst="wedgeRoundRectCallout">
            <a:avLst>
              <a:gd name="adj1" fmla="val -140972"/>
              <a:gd name="adj2" fmla="val 2964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档位示意图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、门把手总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8"/>
          <p:cNvSpPr/>
          <p:nvPr/>
        </p:nvSpPr>
        <p:spPr>
          <a:xfrm rot="5400000">
            <a:off x="8294040" y="3312720"/>
            <a:ext cx="28800" cy="597240"/>
          </a:xfrm>
          <a:custGeom>
            <a:avLst/>
            <a:gdLst/>
            <a:ahLst/>
            <a:rect l="l" t="t" r="r" b="b"/>
            <a:pathLst>
              <a:path w="205" h="2900">
                <a:moveTo>
                  <a:pt x="0" y="2900"/>
                </a:moveTo>
                <a:lnTo>
                  <a:pt x="75" y="2873"/>
                </a:lnTo>
                <a:lnTo>
                  <a:pt x="123" y="2857"/>
                </a:lnTo>
                <a:lnTo>
                  <a:pt x="171" y="2835"/>
                </a:lnTo>
                <a:lnTo>
                  <a:pt x="201" y="2775"/>
                </a:lnTo>
                <a:lnTo>
                  <a:pt x="205" y="117"/>
                </a:lnTo>
                <a:lnTo>
                  <a:pt x="66" y="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8" name="Freeform 19"/>
          <p:cNvSpPr/>
          <p:nvPr/>
        </p:nvSpPr>
        <p:spPr>
          <a:xfrm rot="5400000">
            <a:off x="8239680" y="3226680"/>
            <a:ext cx="144360" cy="615960"/>
          </a:xfrm>
          <a:custGeom>
            <a:avLst/>
            <a:gdLst/>
            <a:ahLst/>
            <a:rect l="l" t="t" r="r" b="b"/>
            <a:pathLst>
              <a:path w="1064" h="2992">
                <a:moveTo>
                  <a:pt x="1047" y="2940"/>
                </a:moveTo>
                <a:lnTo>
                  <a:pt x="945" y="2980"/>
                </a:lnTo>
                <a:lnTo>
                  <a:pt x="793" y="2992"/>
                </a:lnTo>
                <a:lnTo>
                  <a:pt x="644" y="2992"/>
                </a:lnTo>
                <a:lnTo>
                  <a:pt x="504" y="2992"/>
                </a:lnTo>
                <a:lnTo>
                  <a:pt x="372" y="2992"/>
                </a:lnTo>
                <a:lnTo>
                  <a:pt x="297" y="2980"/>
                </a:lnTo>
                <a:lnTo>
                  <a:pt x="247" y="2960"/>
                </a:lnTo>
                <a:lnTo>
                  <a:pt x="194" y="2926"/>
                </a:lnTo>
                <a:lnTo>
                  <a:pt x="144" y="2866"/>
                </a:lnTo>
                <a:lnTo>
                  <a:pt x="111" y="2827"/>
                </a:lnTo>
                <a:lnTo>
                  <a:pt x="111" y="1847"/>
                </a:lnTo>
                <a:lnTo>
                  <a:pt x="76" y="1804"/>
                </a:lnTo>
                <a:lnTo>
                  <a:pt x="51" y="1728"/>
                </a:lnTo>
                <a:lnTo>
                  <a:pt x="13" y="1668"/>
                </a:lnTo>
                <a:lnTo>
                  <a:pt x="13" y="1589"/>
                </a:lnTo>
                <a:lnTo>
                  <a:pt x="13" y="1508"/>
                </a:lnTo>
                <a:lnTo>
                  <a:pt x="0" y="1459"/>
                </a:lnTo>
                <a:lnTo>
                  <a:pt x="43" y="1318"/>
                </a:lnTo>
                <a:lnTo>
                  <a:pt x="93" y="1242"/>
                </a:lnTo>
                <a:lnTo>
                  <a:pt x="111" y="1172"/>
                </a:lnTo>
                <a:lnTo>
                  <a:pt x="101" y="1118"/>
                </a:lnTo>
                <a:lnTo>
                  <a:pt x="101" y="206"/>
                </a:lnTo>
                <a:lnTo>
                  <a:pt x="101" y="176"/>
                </a:lnTo>
                <a:lnTo>
                  <a:pt x="144" y="141"/>
                </a:lnTo>
                <a:lnTo>
                  <a:pt x="194" y="96"/>
                </a:lnTo>
                <a:lnTo>
                  <a:pt x="232" y="46"/>
                </a:lnTo>
                <a:lnTo>
                  <a:pt x="301" y="16"/>
                </a:lnTo>
                <a:lnTo>
                  <a:pt x="486" y="0"/>
                </a:lnTo>
                <a:lnTo>
                  <a:pt x="644" y="0"/>
                </a:lnTo>
                <a:lnTo>
                  <a:pt x="761" y="0"/>
                </a:lnTo>
                <a:lnTo>
                  <a:pt x="876" y="24"/>
                </a:lnTo>
                <a:lnTo>
                  <a:pt x="976" y="40"/>
                </a:lnTo>
                <a:lnTo>
                  <a:pt x="1064" y="65"/>
                </a:lnTo>
                <a:lnTo>
                  <a:pt x="1064" y="7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9" name="Freeform 20"/>
          <p:cNvSpPr/>
          <p:nvPr/>
        </p:nvSpPr>
        <p:spPr>
          <a:xfrm rot="5400000">
            <a:off x="8211240" y="3064680"/>
            <a:ext cx="190440" cy="630000"/>
          </a:xfrm>
          <a:custGeom>
            <a:avLst/>
            <a:gdLst/>
            <a:ahLst/>
            <a:rect l="l" t="t" r="r" b="b"/>
            <a:pathLst>
              <a:path w="1398" h="3061">
                <a:moveTo>
                  <a:pt x="1398" y="2840"/>
                </a:moveTo>
                <a:lnTo>
                  <a:pt x="1298" y="2906"/>
                </a:lnTo>
                <a:lnTo>
                  <a:pt x="1197" y="2975"/>
                </a:lnTo>
                <a:lnTo>
                  <a:pt x="1077" y="3032"/>
                </a:lnTo>
                <a:lnTo>
                  <a:pt x="913" y="3041"/>
                </a:lnTo>
                <a:lnTo>
                  <a:pt x="762" y="3041"/>
                </a:lnTo>
                <a:lnTo>
                  <a:pt x="573" y="3061"/>
                </a:lnTo>
                <a:lnTo>
                  <a:pt x="435" y="3061"/>
                </a:lnTo>
                <a:lnTo>
                  <a:pt x="302" y="3061"/>
                </a:lnTo>
                <a:lnTo>
                  <a:pt x="163" y="3032"/>
                </a:lnTo>
                <a:lnTo>
                  <a:pt x="113" y="3021"/>
                </a:lnTo>
                <a:lnTo>
                  <a:pt x="63" y="2960"/>
                </a:lnTo>
                <a:lnTo>
                  <a:pt x="31" y="2921"/>
                </a:lnTo>
                <a:lnTo>
                  <a:pt x="11" y="2800"/>
                </a:lnTo>
                <a:lnTo>
                  <a:pt x="11" y="2641"/>
                </a:lnTo>
                <a:lnTo>
                  <a:pt x="0" y="396"/>
                </a:lnTo>
                <a:lnTo>
                  <a:pt x="0" y="321"/>
                </a:lnTo>
                <a:lnTo>
                  <a:pt x="0" y="256"/>
                </a:lnTo>
                <a:lnTo>
                  <a:pt x="0" y="182"/>
                </a:lnTo>
                <a:lnTo>
                  <a:pt x="31" y="110"/>
                </a:lnTo>
                <a:lnTo>
                  <a:pt x="63" y="65"/>
                </a:lnTo>
                <a:lnTo>
                  <a:pt x="163" y="24"/>
                </a:lnTo>
                <a:lnTo>
                  <a:pt x="283" y="0"/>
                </a:lnTo>
                <a:lnTo>
                  <a:pt x="424" y="0"/>
                </a:lnTo>
                <a:lnTo>
                  <a:pt x="807" y="0"/>
                </a:lnTo>
                <a:lnTo>
                  <a:pt x="913" y="16"/>
                </a:lnTo>
                <a:lnTo>
                  <a:pt x="1015" y="40"/>
                </a:lnTo>
                <a:lnTo>
                  <a:pt x="1117" y="65"/>
                </a:lnTo>
                <a:lnTo>
                  <a:pt x="1177" y="105"/>
                </a:lnTo>
                <a:lnTo>
                  <a:pt x="1280" y="161"/>
                </a:lnTo>
                <a:lnTo>
                  <a:pt x="1305" y="176"/>
                </a:lnTo>
                <a:lnTo>
                  <a:pt x="1381" y="19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0" name="Line 21"/>
          <p:cNvSpPr/>
          <p:nvPr/>
        </p:nvSpPr>
        <p:spPr>
          <a:xfrm flipH="1" flipV="1">
            <a:off x="8079840" y="3290760"/>
            <a:ext cx="3240" cy="31608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1" name="Line 22"/>
          <p:cNvSpPr/>
          <p:nvPr/>
        </p:nvSpPr>
        <p:spPr>
          <a:xfrm flipH="1" flipV="1">
            <a:off x="8535600" y="3288960"/>
            <a:ext cx="11160" cy="31572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2" name="Freeform 23"/>
          <p:cNvSpPr/>
          <p:nvPr/>
        </p:nvSpPr>
        <p:spPr>
          <a:xfrm rot="5400000">
            <a:off x="8166240" y="3543480"/>
            <a:ext cx="126720" cy="2880"/>
          </a:xfrm>
          <a:custGeom>
            <a:avLst/>
            <a:gdLst/>
            <a:ahLst/>
            <a:rect l="l" t="t" r="r" b="b"/>
            <a:pathLst>
              <a:path w="932" h="15">
                <a:moveTo>
                  <a:pt x="932" y="0"/>
                </a:moveTo>
                <a:lnTo>
                  <a:pt x="903" y="0"/>
                </a:lnTo>
                <a:lnTo>
                  <a:pt x="599" y="15"/>
                </a:lnTo>
                <a:lnTo>
                  <a:pt x="442" y="15"/>
                </a:lnTo>
                <a:lnTo>
                  <a:pt x="259" y="0"/>
                </a:lnTo>
                <a:lnTo>
                  <a:pt x="0" y="15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3" name="Freeform 24"/>
          <p:cNvSpPr/>
          <p:nvPr/>
        </p:nvSpPr>
        <p:spPr>
          <a:xfrm rot="5400000">
            <a:off x="8329320" y="3538440"/>
            <a:ext cx="129960" cy="9720"/>
          </a:xfrm>
          <a:custGeom>
            <a:avLst/>
            <a:gdLst/>
            <a:ahLst/>
            <a:rect l="l" t="t" r="r" b="b"/>
            <a:pathLst>
              <a:path w="965" h="40">
                <a:moveTo>
                  <a:pt x="965" y="0"/>
                </a:moveTo>
                <a:lnTo>
                  <a:pt x="526" y="5"/>
                </a:lnTo>
                <a:lnTo>
                  <a:pt x="272" y="15"/>
                </a:lnTo>
                <a:lnTo>
                  <a:pt x="0" y="29"/>
                </a:lnTo>
                <a:lnTo>
                  <a:pt x="0" y="4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4" name="Line 25"/>
          <p:cNvSpPr/>
          <p:nvPr/>
        </p:nvSpPr>
        <p:spPr>
          <a:xfrm flipV="1">
            <a:off x="8313840" y="3463920"/>
            <a:ext cx="1440" cy="14112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5" name="Line 26"/>
          <p:cNvSpPr/>
          <p:nvPr/>
        </p:nvSpPr>
        <p:spPr>
          <a:xfrm flipH="1" flipV="1">
            <a:off x="8238600" y="3290760"/>
            <a:ext cx="1800" cy="1778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6" name="Line 27"/>
          <p:cNvSpPr/>
          <p:nvPr/>
        </p:nvSpPr>
        <p:spPr>
          <a:xfrm flipV="1">
            <a:off x="8078040" y="3386160"/>
            <a:ext cx="158760" cy="14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7" name="Line 28"/>
          <p:cNvSpPr/>
          <p:nvPr/>
        </p:nvSpPr>
        <p:spPr>
          <a:xfrm flipV="1">
            <a:off x="8377200" y="3290760"/>
            <a:ext cx="0" cy="1778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8" name="Line 29"/>
          <p:cNvSpPr/>
          <p:nvPr/>
        </p:nvSpPr>
        <p:spPr>
          <a:xfrm flipH="1" flipV="1">
            <a:off x="8375400" y="3386160"/>
            <a:ext cx="161640" cy="14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9" name="Freeform 30"/>
          <p:cNvSpPr/>
          <p:nvPr/>
        </p:nvSpPr>
        <p:spPr>
          <a:xfrm rot="5400000">
            <a:off x="7979040" y="2939040"/>
            <a:ext cx="311040" cy="258840"/>
          </a:xfrm>
          <a:custGeom>
            <a:avLst/>
            <a:gdLst/>
            <a:ahLst/>
            <a:rect l="l" t="t" r="r" b="b"/>
            <a:pathLst>
              <a:path w="2294" h="1258">
                <a:moveTo>
                  <a:pt x="2294" y="1037"/>
                </a:moveTo>
                <a:lnTo>
                  <a:pt x="2294" y="156"/>
                </a:lnTo>
                <a:lnTo>
                  <a:pt x="2195" y="136"/>
                </a:lnTo>
                <a:lnTo>
                  <a:pt x="2079" y="86"/>
                </a:lnTo>
                <a:lnTo>
                  <a:pt x="1908" y="40"/>
                </a:lnTo>
                <a:lnTo>
                  <a:pt x="1760" y="20"/>
                </a:lnTo>
                <a:lnTo>
                  <a:pt x="1619" y="5"/>
                </a:lnTo>
                <a:lnTo>
                  <a:pt x="1488" y="0"/>
                </a:lnTo>
                <a:lnTo>
                  <a:pt x="1430" y="32"/>
                </a:lnTo>
                <a:lnTo>
                  <a:pt x="1420" y="86"/>
                </a:lnTo>
                <a:lnTo>
                  <a:pt x="1347" y="86"/>
                </a:lnTo>
                <a:lnTo>
                  <a:pt x="1180" y="60"/>
                </a:lnTo>
                <a:lnTo>
                  <a:pt x="960" y="32"/>
                </a:lnTo>
                <a:lnTo>
                  <a:pt x="744" y="0"/>
                </a:lnTo>
                <a:lnTo>
                  <a:pt x="586" y="0"/>
                </a:lnTo>
                <a:lnTo>
                  <a:pt x="351" y="20"/>
                </a:lnTo>
                <a:lnTo>
                  <a:pt x="184" y="56"/>
                </a:lnTo>
                <a:lnTo>
                  <a:pt x="133" y="80"/>
                </a:lnTo>
                <a:lnTo>
                  <a:pt x="30" y="181"/>
                </a:lnTo>
                <a:lnTo>
                  <a:pt x="0" y="230"/>
                </a:lnTo>
                <a:lnTo>
                  <a:pt x="0" y="531"/>
                </a:lnTo>
                <a:lnTo>
                  <a:pt x="0" y="827"/>
                </a:lnTo>
                <a:lnTo>
                  <a:pt x="30" y="1079"/>
                </a:lnTo>
                <a:lnTo>
                  <a:pt x="101" y="1178"/>
                </a:lnTo>
                <a:lnTo>
                  <a:pt x="201" y="1227"/>
                </a:lnTo>
                <a:lnTo>
                  <a:pt x="384" y="1244"/>
                </a:lnTo>
                <a:lnTo>
                  <a:pt x="573" y="1258"/>
                </a:lnTo>
                <a:lnTo>
                  <a:pt x="744" y="1244"/>
                </a:lnTo>
                <a:lnTo>
                  <a:pt x="1430" y="1133"/>
                </a:lnTo>
                <a:lnTo>
                  <a:pt x="1449" y="1173"/>
                </a:lnTo>
                <a:lnTo>
                  <a:pt x="1476" y="1204"/>
                </a:lnTo>
                <a:lnTo>
                  <a:pt x="1526" y="1227"/>
                </a:lnTo>
                <a:lnTo>
                  <a:pt x="1659" y="1227"/>
                </a:lnTo>
                <a:lnTo>
                  <a:pt x="1809" y="1192"/>
                </a:lnTo>
                <a:lnTo>
                  <a:pt x="2029" y="1146"/>
                </a:lnTo>
                <a:lnTo>
                  <a:pt x="2213" y="1092"/>
                </a:lnTo>
                <a:lnTo>
                  <a:pt x="2294" y="1042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0" name="Freeform 31"/>
          <p:cNvSpPr/>
          <p:nvPr/>
        </p:nvSpPr>
        <p:spPr>
          <a:xfrm rot="5400000">
            <a:off x="7914960" y="3055680"/>
            <a:ext cx="297000" cy="30240"/>
          </a:xfrm>
          <a:custGeom>
            <a:avLst/>
            <a:gdLst/>
            <a:ahLst/>
            <a:rect l="l" t="t" r="r" b="b"/>
            <a:pathLst>
              <a:path w="2181" h="144">
                <a:moveTo>
                  <a:pt x="2181" y="0"/>
                </a:moveTo>
                <a:lnTo>
                  <a:pt x="1993" y="9"/>
                </a:lnTo>
                <a:lnTo>
                  <a:pt x="1457" y="9"/>
                </a:lnTo>
                <a:lnTo>
                  <a:pt x="916" y="48"/>
                </a:lnTo>
                <a:lnTo>
                  <a:pt x="0" y="144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1" name="Freeform 32"/>
          <p:cNvSpPr/>
          <p:nvPr/>
        </p:nvSpPr>
        <p:spPr>
          <a:xfrm rot="5400000">
            <a:off x="8066520" y="3054960"/>
            <a:ext cx="297000" cy="31680"/>
          </a:xfrm>
          <a:custGeom>
            <a:avLst/>
            <a:gdLst/>
            <a:ahLst/>
            <a:rect l="l" t="t" r="r" b="b"/>
            <a:pathLst>
              <a:path w="2181" h="148">
                <a:moveTo>
                  <a:pt x="2181" y="148"/>
                </a:moveTo>
                <a:lnTo>
                  <a:pt x="1993" y="136"/>
                </a:lnTo>
                <a:lnTo>
                  <a:pt x="1457" y="136"/>
                </a:lnTo>
                <a:lnTo>
                  <a:pt x="916" y="10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2" name="Freeform 33"/>
          <p:cNvSpPr/>
          <p:nvPr/>
        </p:nvSpPr>
        <p:spPr>
          <a:xfrm rot="5400000">
            <a:off x="8134560" y="3005640"/>
            <a:ext cx="14400" cy="212760"/>
          </a:xfrm>
          <a:custGeom>
            <a:avLst/>
            <a:gdLst/>
            <a:ahLst/>
            <a:rect l="l" t="t" r="r" b="b"/>
            <a:pathLst>
              <a:path w="114" h="1038">
                <a:moveTo>
                  <a:pt x="25" y="1038"/>
                </a:moveTo>
                <a:lnTo>
                  <a:pt x="114" y="852"/>
                </a:lnTo>
                <a:lnTo>
                  <a:pt x="114" y="2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3" name="Line 34"/>
          <p:cNvSpPr/>
          <p:nvPr/>
        </p:nvSpPr>
        <p:spPr>
          <a:xfrm>
            <a:off x="8080200" y="3193920"/>
            <a:ext cx="119160" cy="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8070840" y="3042360"/>
            <a:ext cx="133200" cy="180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5" name="Freeform 36"/>
          <p:cNvSpPr/>
          <p:nvPr/>
        </p:nvSpPr>
        <p:spPr>
          <a:xfrm rot="5400000">
            <a:off x="8327880" y="2939760"/>
            <a:ext cx="312840" cy="262080"/>
          </a:xfrm>
          <a:custGeom>
            <a:avLst/>
            <a:gdLst/>
            <a:ahLst/>
            <a:rect l="l" t="t" r="r" b="b"/>
            <a:pathLst>
              <a:path w="2299" h="1268">
                <a:moveTo>
                  <a:pt x="2299" y="1038"/>
                </a:moveTo>
                <a:lnTo>
                  <a:pt x="2299" y="160"/>
                </a:lnTo>
                <a:lnTo>
                  <a:pt x="2200" y="135"/>
                </a:lnTo>
                <a:lnTo>
                  <a:pt x="2085" y="84"/>
                </a:lnTo>
                <a:lnTo>
                  <a:pt x="1910" y="46"/>
                </a:lnTo>
                <a:lnTo>
                  <a:pt x="1764" y="24"/>
                </a:lnTo>
                <a:lnTo>
                  <a:pt x="1625" y="5"/>
                </a:lnTo>
                <a:lnTo>
                  <a:pt x="1493" y="0"/>
                </a:lnTo>
                <a:lnTo>
                  <a:pt x="1436" y="39"/>
                </a:lnTo>
                <a:lnTo>
                  <a:pt x="1425" y="84"/>
                </a:lnTo>
                <a:lnTo>
                  <a:pt x="1357" y="84"/>
                </a:lnTo>
                <a:lnTo>
                  <a:pt x="1171" y="70"/>
                </a:lnTo>
                <a:lnTo>
                  <a:pt x="964" y="39"/>
                </a:lnTo>
                <a:lnTo>
                  <a:pt x="748" y="0"/>
                </a:lnTo>
                <a:lnTo>
                  <a:pt x="592" y="0"/>
                </a:lnTo>
                <a:lnTo>
                  <a:pt x="360" y="24"/>
                </a:lnTo>
                <a:lnTo>
                  <a:pt x="188" y="55"/>
                </a:lnTo>
                <a:lnTo>
                  <a:pt x="132" y="78"/>
                </a:lnTo>
                <a:lnTo>
                  <a:pt x="31" y="181"/>
                </a:lnTo>
                <a:lnTo>
                  <a:pt x="0" y="240"/>
                </a:lnTo>
                <a:lnTo>
                  <a:pt x="0" y="536"/>
                </a:lnTo>
                <a:lnTo>
                  <a:pt x="0" y="826"/>
                </a:lnTo>
                <a:lnTo>
                  <a:pt x="31" y="1082"/>
                </a:lnTo>
                <a:lnTo>
                  <a:pt x="99" y="1183"/>
                </a:lnTo>
                <a:lnTo>
                  <a:pt x="201" y="1228"/>
                </a:lnTo>
                <a:lnTo>
                  <a:pt x="392" y="1252"/>
                </a:lnTo>
                <a:lnTo>
                  <a:pt x="581" y="1268"/>
                </a:lnTo>
                <a:lnTo>
                  <a:pt x="748" y="1252"/>
                </a:lnTo>
                <a:lnTo>
                  <a:pt x="1436" y="1144"/>
                </a:lnTo>
                <a:lnTo>
                  <a:pt x="1455" y="1172"/>
                </a:lnTo>
                <a:lnTo>
                  <a:pt x="1475" y="1202"/>
                </a:lnTo>
                <a:lnTo>
                  <a:pt x="1538" y="1228"/>
                </a:lnTo>
                <a:lnTo>
                  <a:pt x="1664" y="1228"/>
                </a:lnTo>
                <a:lnTo>
                  <a:pt x="1810" y="1198"/>
                </a:lnTo>
                <a:lnTo>
                  <a:pt x="2035" y="1147"/>
                </a:lnTo>
                <a:lnTo>
                  <a:pt x="2207" y="1093"/>
                </a:lnTo>
                <a:lnTo>
                  <a:pt x="2299" y="1042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6" name="Freeform 37"/>
          <p:cNvSpPr/>
          <p:nvPr/>
        </p:nvSpPr>
        <p:spPr>
          <a:xfrm rot="5400000">
            <a:off x="8263800" y="3056760"/>
            <a:ext cx="295200" cy="33120"/>
          </a:xfrm>
          <a:custGeom>
            <a:avLst/>
            <a:gdLst/>
            <a:ahLst/>
            <a:rect l="l" t="t" r="r" b="b"/>
            <a:pathLst>
              <a:path w="2168" h="154">
                <a:moveTo>
                  <a:pt x="2168" y="0"/>
                </a:moveTo>
                <a:lnTo>
                  <a:pt x="1984" y="19"/>
                </a:lnTo>
                <a:lnTo>
                  <a:pt x="1456" y="19"/>
                </a:lnTo>
                <a:lnTo>
                  <a:pt x="913" y="49"/>
                </a:lnTo>
                <a:lnTo>
                  <a:pt x="0" y="154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7" name="Freeform 38"/>
          <p:cNvSpPr/>
          <p:nvPr/>
        </p:nvSpPr>
        <p:spPr>
          <a:xfrm rot="5400000">
            <a:off x="8415720" y="3056400"/>
            <a:ext cx="295200" cy="33480"/>
          </a:xfrm>
          <a:custGeom>
            <a:avLst/>
            <a:gdLst/>
            <a:ahLst/>
            <a:rect l="l" t="t" r="r" b="b"/>
            <a:pathLst>
              <a:path w="2168" h="156">
                <a:moveTo>
                  <a:pt x="2168" y="156"/>
                </a:moveTo>
                <a:lnTo>
                  <a:pt x="1984" y="147"/>
                </a:lnTo>
                <a:lnTo>
                  <a:pt x="1456" y="147"/>
                </a:lnTo>
                <a:lnTo>
                  <a:pt x="913" y="10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8" name="Freeform 39"/>
          <p:cNvSpPr/>
          <p:nvPr/>
        </p:nvSpPr>
        <p:spPr>
          <a:xfrm rot="5400000">
            <a:off x="8483760" y="3007440"/>
            <a:ext cx="15840" cy="214200"/>
          </a:xfrm>
          <a:custGeom>
            <a:avLst/>
            <a:gdLst/>
            <a:ahLst/>
            <a:rect l="l" t="t" r="r" b="b"/>
            <a:pathLst>
              <a:path w="117" h="1040">
                <a:moveTo>
                  <a:pt x="29" y="1040"/>
                </a:moveTo>
                <a:lnTo>
                  <a:pt x="117" y="853"/>
                </a:lnTo>
                <a:lnTo>
                  <a:pt x="117" y="2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9" name="Line 40"/>
          <p:cNvSpPr/>
          <p:nvPr/>
        </p:nvSpPr>
        <p:spPr>
          <a:xfrm>
            <a:off x="8427960" y="3195720"/>
            <a:ext cx="120600" cy="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0" name="Line 41"/>
          <p:cNvSpPr/>
          <p:nvPr/>
        </p:nvSpPr>
        <p:spPr>
          <a:xfrm>
            <a:off x="8418600" y="3044880"/>
            <a:ext cx="135000" cy="1440"/>
          </a:xfrm>
          <a:prstGeom prst="line">
            <a:avLst/>
          </a:prstGeom>
          <a:ln w="0">
            <a:solidFill>
              <a:srgbClr val="99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1" name="Freeform 42"/>
          <p:cNvSpPr/>
          <p:nvPr/>
        </p:nvSpPr>
        <p:spPr>
          <a:xfrm rot="5400000">
            <a:off x="8271720" y="2255040"/>
            <a:ext cx="77760" cy="606240"/>
          </a:xfrm>
          <a:custGeom>
            <a:avLst/>
            <a:gdLst/>
            <a:ahLst/>
            <a:rect l="l" t="t" r="r" b="b"/>
            <a:pathLst>
              <a:path w="117" h="1472">
                <a:moveTo>
                  <a:pt x="117" y="0"/>
                </a:moveTo>
                <a:cubicBezTo>
                  <a:pt x="101" y="44"/>
                  <a:pt x="85" y="88"/>
                  <a:pt x="69" y="144"/>
                </a:cubicBezTo>
                <a:cubicBezTo>
                  <a:pt x="53" y="200"/>
                  <a:pt x="31" y="277"/>
                  <a:pt x="21" y="336"/>
                </a:cubicBezTo>
                <a:cubicBezTo>
                  <a:pt x="11" y="395"/>
                  <a:pt x="12" y="435"/>
                  <a:pt x="9" y="496"/>
                </a:cubicBezTo>
                <a:cubicBezTo>
                  <a:pt x="6" y="557"/>
                  <a:pt x="2" y="639"/>
                  <a:pt x="1" y="704"/>
                </a:cubicBezTo>
                <a:cubicBezTo>
                  <a:pt x="0" y="769"/>
                  <a:pt x="2" y="825"/>
                  <a:pt x="5" y="884"/>
                </a:cubicBezTo>
                <a:cubicBezTo>
                  <a:pt x="8" y="943"/>
                  <a:pt x="12" y="1006"/>
                  <a:pt x="17" y="1056"/>
                </a:cubicBezTo>
                <a:cubicBezTo>
                  <a:pt x="22" y="1106"/>
                  <a:pt x="27" y="1134"/>
                  <a:pt x="37" y="1184"/>
                </a:cubicBezTo>
                <a:cubicBezTo>
                  <a:pt x="47" y="1234"/>
                  <a:pt x="65" y="1308"/>
                  <a:pt x="77" y="1356"/>
                </a:cubicBezTo>
                <a:cubicBezTo>
                  <a:pt x="89" y="1404"/>
                  <a:pt x="103" y="1453"/>
                  <a:pt x="109" y="1472"/>
                </a:cubicBez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2" name="Freeform 43"/>
          <p:cNvSpPr/>
          <p:nvPr/>
        </p:nvSpPr>
        <p:spPr>
          <a:xfrm rot="5400000">
            <a:off x="8379000" y="2508120"/>
            <a:ext cx="61920" cy="325440"/>
          </a:xfrm>
          <a:custGeom>
            <a:avLst/>
            <a:gdLst/>
            <a:ahLst/>
            <a:rect l="l" t="t" r="r" b="b"/>
            <a:pathLst>
              <a:path w="153" h="792">
                <a:moveTo>
                  <a:pt x="115" y="0"/>
                </a:moveTo>
                <a:cubicBezTo>
                  <a:pt x="108" y="16"/>
                  <a:pt x="102" y="33"/>
                  <a:pt x="87" y="68"/>
                </a:cubicBezTo>
                <a:cubicBezTo>
                  <a:pt x="72" y="103"/>
                  <a:pt x="40" y="161"/>
                  <a:pt x="27" y="208"/>
                </a:cubicBezTo>
                <a:cubicBezTo>
                  <a:pt x="14" y="255"/>
                  <a:pt x="0" y="301"/>
                  <a:pt x="7" y="348"/>
                </a:cubicBezTo>
                <a:cubicBezTo>
                  <a:pt x="14" y="395"/>
                  <a:pt x="44" y="449"/>
                  <a:pt x="67" y="492"/>
                </a:cubicBezTo>
                <a:cubicBezTo>
                  <a:pt x="90" y="535"/>
                  <a:pt x="133" y="558"/>
                  <a:pt x="143" y="608"/>
                </a:cubicBezTo>
                <a:cubicBezTo>
                  <a:pt x="153" y="658"/>
                  <a:pt x="130" y="761"/>
                  <a:pt x="127" y="792"/>
                </a:cubicBez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3" name="Freeform 44"/>
          <p:cNvSpPr/>
          <p:nvPr/>
        </p:nvSpPr>
        <p:spPr>
          <a:xfrm rot="5400000">
            <a:off x="8127000" y="2596320"/>
            <a:ext cx="44640" cy="217440"/>
          </a:xfrm>
          <a:custGeom>
            <a:avLst/>
            <a:gdLst/>
            <a:ahLst/>
            <a:rect l="l" t="t" r="r" b="b"/>
            <a:pathLst>
              <a:path w="108" h="528">
                <a:moveTo>
                  <a:pt x="0" y="0"/>
                </a:moveTo>
                <a:cubicBezTo>
                  <a:pt x="17" y="40"/>
                  <a:pt x="92" y="152"/>
                  <a:pt x="100" y="240"/>
                </a:cubicBezTo>
                <a:cubicBezTo>
                  <a:pt x="108" y="328"/>
                  <a:pt x="59" y="468"/>
                  <a:pt x="48" y="528"/>
                </a:cubicBez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4" name="Freeform 45"/>
          <p:cNvSpPr/>
          <p:nvPr/>
        </p:nvSpPr>
        <p:spPr>
          <a:xfrm rot="5400000">
            <a:off x="8069040" y="2930400"/>
            <a:ext cx="530280" cy="44640"/>
          </a:xfrm>
          <a:custGeom>
            <a:avLst/>
            <a:gdLst/>
            <a:ahLst/>
            <a:rect l="l" t="t" r="r" b="b"/>
            <a:pathLst>
              <a:path w="1300" h="108">
                <a:moveTo>
                  <a:pt x="0" y="0"/>
                </a:moveTo>
                <a:lnTo>
                  <a:pt x="260" y="24"/>
                </a:lnTo>
                <a:lnTo>
                  <a:pt x="576" y="48"/>
                </a:lnTo>
                <a:lnTo>
                  <a:pt x="936" y="48"/>
                </a:lnTo>
                <a:lnTo>
                  <a:pt x="1216" y="16"/>
                </a:lnTo>
                <a:lnTo>
                  <a:pt x="1288" y="8"/>
                </a:lnTo>
                <a:lnTo>
                  <a:pt x="1296" y="44"/>
                </a:lnTo>
                <a:lnTo>
                  <a:pt x="1300" y="108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3240" bIns="-324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5" name="Freeform 46"/>
          <p:cNvSpPr/>
          <p:nvPr/>
        </p:nvSpPr>
        <p:spPr>
          <a:xfrm rot="5400000">
            <a:off x="8032680" y="2933640"/>
            <a:ext cx="524160" cy="44640"/>
          </a:xfrm>
          <a:custGeom>
            <a:avLst/>
            <a:gdLst/>
            <a:ahLst/>
            <a:rect l="l" t="t" r="r" b="b"/>
            <a:pathLst>
              <a:path w="1284" h="108">
                <a:moveTo>
                  <a:pt x="0" y="108"/>
                </a:moveTo>
                <a:lnTo>
                  <a:pt x="244" y="84"/>
                </a:lnTo>
                <a:lnTo>
                  <a:pt x="560" y="60"/>
                </a:lnTo>
                <a:lnTo>
                  <a:pt x="920" y="60"/>
                </a:lnTo>
                <a:lnTo>
                  <a:pt x="1200" y="92"/>
                </a:lnTo>
                <a:lnTo>
                  <a:pt x="1272" y="100"/>
                </a:lnTo>
                <a:lnTo>
                  <a:pt x="1280" y="64"/>
                </a:lnTo>
                <a:lnTo>
                  <a:pt x="1284" y="0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3240" bIns="-324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6" name="Freeform 47"/>
          <p:cNvSpPr/>
          <p:nvPr/>
        </p:nvSpPr>
        <p:spPr>
          <a:xfrm rot="5400000">
            <a:off x="8160480" y="2729880"/>
            <a:ext cx="30240" cy="2880"/>
          </a:xfrm>
          <a:custGeom>
            <a:avLst/>
            <a:gdLst/>
            <a:ahLst/>
            <a:rect l="l" t="t" r="r" b="b"/>
            <a:pathLst>
              <a:path w="72" h="8">
                <a:moveTo>
                  <a:pt x="0" y="0"/>
                </a:moveTo>
                <a:cubicBezTo>
                  <a:pt x="10" y="4"/>
                  <a:pt x="20" y="8"/>
                  <a:pt x="32" y="8"/>
                </a:cubicBezTo>
                <a:cubicBezTo>
                  <a:pt x="44" y="8"/>
                  <a:pt x="69" y="1"/>
                  <a:pt x="72" y="0"/>
                </a:cubicBezTo>
                <a:lnTo>
                  <a:pt x="48" y="0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45000" bIns="-450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7" name="Freeform 48"/>
          <p:cNvSpPr/>
          <p:nvPr/>
        </p:nvSpPr>
        <p:spPr>
          <a:xfrm flipV="1" rot="5400000">
            <a:off x="8121600" y="2735640"/>
            <a:ext cx="28440" cy="3240"/>
          </a:xfrm>
          <a:custGeom>
            <a:avLst/>
            <a:gdLst/>
            <a:ahLst/>
            <a:rect l="l" t="t" r="r" b="b"/>
            <a:pathLst>
              <a:path w="72" h="8">
                <a:moveTo>
                  <a:pt x="0" y="0"/>
                </a:moveTo>
                <a:cubicBezTo>
                  <a:pt x="10" y="4"/>
                  <a:pt x="20" y="8"/>
                  <a:pt x="32" y="8"/>
                </a:cubicBezTo>
                <a:cubicBezTo>
                  <a:pt x="44" y="8"/>
                  <a:pt x="69" y="1"/>
                  <a:pt x="72" y="0"/>
                </a:cubicBezTo>
                <a:lnTo>
                  <a:pt x="48" y="0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44640" bIns="-4464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8" name="Oval 49"/>
          <p:cNvSpPr/>
          <p:nvPr/>
        </p:nvSpPr>
        <p:spPr>
          <a:xfrm rot="5400000">
            <a:off x="8142120" y="2666880"/>
            <a:ext cx="19080" cy="177840"/>
          </a:xfrm>
          <a:prstGeom prst="ellipse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9" name="Freeform 50"/>
          <p:cNvSpPr/>
          <p:nvPr/>
        </p:nvSpPr>
        <p:spPr>
          <a:xfrm rot="5400000">
            <a:off x="7176960" y="2595600"/>
            <a:ext cx="2276280" cy="895320"/>
          </a:xfrm>
          <a:custGeom>
            <a:avLst/>
            <a:gdLst/>
            <a:ahLst/>
            <a:rect l="l" t="t" r="r" b="b"/>
            <a:pathLst>
              <a:path w="5027" h="1976">
                <a:moveTo>
                  <a:pt x="6" y="978"/>
                </a:moveTo>
                <a:cubicBezTo>
                  <a:pt x="16" y="1084"/>
                  <a:pt x="16" y="1227"/>
                  <a:pt x="40" y="1332"/>
                </a:cubicBezTo>
                <a:cubicBezTo>
                  <a:pt x="64" y="1437"/>
                  <a:pt x="109" y="1540"/>
                  <a:pt x="150" y="1610"/>
                </a:cubicBezTo>
                <a:cubicBezTo>
                  <a:pt x="191" y="1680"/>
                  <a:pt x="230" y="1722"/>
                  <a:pt x="284" y="1754"/>
                </a:cubicBezTo>
                <a:cubicBezTo>
                  <a:pt x="338" y="1786"/>
                  <a:pt x="428" y="1792"/>
                  <a:pt x="474" y="1802"/>
                </a:cubicBezTo>
                <a:cubicBezTo>
                  <a:pt x="520" y="1812"/>
                  <a:pt x="535" y="1804"/>
                  <a:pt x="562" y="1816"/>
                </a:cubicBezTo>
                <a:cubicBezTo>
                  <a:pt x="589" y="1828"/>
                  <a:pt x="572" y="1859"/>
                  <a:pt x="636" y="1872"/>
                </a:cubicBezTo>
                <a:cubicBezTo>
                  <a:pt x="700" y="1885"/>
                  <a:pt x="832" y="1889"/>
                  <a:pt x="944" y="1892"/>
                </a:cubicBezTo>
                <a:cubicBezTo>
                  <a:pt x="1056" y="1895"/>
                  <a:pt x="1237" y="1894"/>
                  <a:pt x="1308" y="1890"/>
                </a:cubicBezTo>
                <a:cubicBezTo>
                  <a:pt x="1379" y="1886"/>
                  <a:pt x="1327" y="1868"/>
                  <a:pt x="1372" y="1866"/>
                </a:cubicBezTo>
                <a:cubicBezTo>
                  <a:pt x="1417" y="1864"/>
                  <a:pt x="1514" y="1876"/>
                  <a:pt x="1576" y="1878"/>
                </a:cubicBezTo>
                <a:cubicBezTo>
                  <a:pt x="1638" y="1880"/>
                  <a:pt x="1706" y="1864"/>
                  <a:pt x="1746" y="1878"/>
                </a:cubicBezTo>
                <a:cubicBezTo>
                  <a:pt x="1786" y="1892"/>
                  <a:pt x="1795" y="1948"/>
                  <a:pt x="1818" y="1962"/>
                </a:cubicBezTo>
                <a:cubicBezTo>
                  <a:pt x="1841" y="1976"/>
                  <a:pt x="1880" y="1976"/>
                  <a:pt x="1886" y="1964"/>
                </a:cubicBezTo>
                <a:cubicBezTo>
                  <a:pt x="1892" y="1952"/>
                  <a:pt x="1853" y="1905"/>
                  <a:pt x="1852" y="1892"/>
                </a:cubicBezTo>
                <a:cubicBezTo>
                  <a:pt x="1851" y="1879"/>
                  <a:pt x="1846" y="1885"/>
                  <a:pt x="1878" y="1884"/>
                </a:cubicBezTo>
                <a:cubicBezTo>
                  <a:pt x="1910" y="1883"/>
                  <a:pt x="1955" y="1886"/>
                  <a:pt x="2046" y="1888"/>
                </a:cubicBezTo>
                <a:cubicBezTo>
                  <a:pt x="2137" y="1890"/>
                  <a:pt x="2299" y="1896"/>
                  <a:pt x="2426" y="1897"/>
                </a:cubicBezTo>
                <a:cubicBezTo>
                  <a:pt x="2553" y="1898"/>
                  <a:pt x="2633" y="1899"/>
                  <a:pt x="2809" y="1897"/>
                </a:cubicBezTo>
                <a:cubicBezTo>
                  <a:pt x="2985" y="1895"/>
                  <a:pt x="3349" y="1884"/>
                  <a:pt x="3482" y="1884"/>
                </a:cubicBezTo>
                <a:cubicBezTo>
                  <a:pt x="3615" y="1884"/>
                  <a:pt x="3554" y="1898"/>
                  <a:pt x="3610" y="1900"/>
                </a:cubicBezTo>
                <a:cubicBezTo>
                  <a:pt x="3666" y="1902"/>
                  <a:pt x="3712" y="1900"/>
                  <a:pt x="3817" y="1897"/>
                </a:cubicBezTo>
                <a:cubicBezTo>
                  <a:pt x="3922" y="1894"/>
                  <a:pt x="4150" y="1887"/>
                  <a:pt x="4238" y="1882"/>
                </a:cubicBezTo>
                <a:cubicBezTo>
                  <a:pt x="4326" y="1877"/>
                  <a:pt x="4312" y="1875"/>
                  <a:pt x="4342" y="1868"/>
                </a:cubicBezTo>
                <a:cubicBezTo>
                  <a:pt x="4372" y="1861"/>
                  <a:pt x="4328" y="1861"/>
                  <a:pt x="4416" y="1842"/>
                </a:cubicBezTo>
                <a:cubicBezTo>
                  <a:pt x="4504" y="1823"/>
                  <a:pt x="4775" y="1840"/>
                  <a:pt x="4873" y="1753"/>
                </a:cubicBezTo>
                <a:cubicBezTo>
                  <a:pt x="4971" y="1666"/>
                  <a:pt x="4977" y="1446"/>
                  <a:pt x="5002" y="1318"/>
                </a:cubicBezTo>
                <a:cubicBezTo>
                  <a:pt x="5027" y="1190"/>
                  <a:pt x="5027" y="1096"/>
                  <a:pt x="5026" y="984"/>
                </a:cubicBezTo>
                <a:cubicBezTo>
                  <a:pt x="5025" y="872"/>
                  <a:pt x="5012" y="748"/>
                  <a:pt x="4998" y="644"/>
                </a:cubicBezTo>
                <a:cubicBezTo>
                  <a:pt x="4984" y="540"/>
                  <a:pt x="4967" y="431"/>
                  <a:pt x="4942" y="360"/>
                </a:cubicBezTo>
                <a:cubicBezTo>
                  <a:pt x="4917" y="289"/>
                  <a:pt x="4907" y="252"/>
                  <a:pt x="4848" y="220"/>
                </a:cubicBezTo>
                <a:cubicBezTo>
                  <a:pt x="4789" y="188"/>
                  <a:pt x="4660" y="179"/>
                  <a:pt x="4585" y="168"/>
                </a:cubicBezTo>
                <a:cubicBezTo>
                  <a:pt x="4510" y="157"/>
                  <a:pt x="4440" y="162"/>
                  <a:pt x="4398" y="154"/>
                </a:cubicBezTo>
                <a:cubicBezTo>
                  <a:pt x="4356" y="146"/>
                  <a:pt x="4400" y="133"/>
                  <a:pt x="4334" y="122"/>
                </a:cubicBezTo>
                <a:cubicBezTo>
                  <a:pt x="4268" y="111"/>
                  <a:pt x="4096" y="97"/>
                  <a:pt x="4002" y="90"/>
                </a:cubicBezTo>
                <a:cubicBezTo>
                  <a:pt x="3908" y="83"/>
                  <a:pt x="3830" y="83"/>
                  <a:pt x="3768" y="82"/>
                </a:cubicBezTo>
                <a:cubicBezTo>
                  <a:pt x="3706" y="81"/>
                  <a:pt x="3675" y="79"/>
                  <a:pt x="3632" y="82"/>
                </a:cubicBezTo>
                <a:cubicBezTo>
                  <a:pt x="3589" y="85"/>
                  <a:pt x="3663" y="97"/>
                  <a:pt x="3512" y="98"/>
                </a:cubicBezTo>
                <a:cubicBezTo>
                  <a:pt x="3361" y="99"/>
                  <a:pt x="2949" y="87"/>
                  <a:pt x="2724" y="86"/>
                </a:cubicBezTo>
                <a:cubicBezTo>
                  <a:pt x="2499" y="85"/>
                  <a:pt x="2290" y="89"/>
                  <a:pt x="2162" y="90"/>
                </a:cubicBezTo>
                <a:cubicBezTo>
                  <a:pt x="2034" y="91"/>
                  <a:pt x="2004" y="90"/>
                  <a:pt x="1956" y="90"/>
                </a:cubicBezTo>
                <a:cubicBezTo>
                  <a:pt x="1908" y="90"/>
                  <a:pt x="1882" y="101"/>
                  <a:pt x="1872" y="88"/>
                </a:cubicBezTo>
                <a:cubicBezTo>
                  <a:pt x="1862" y="75"/>
                  <a:pt x="1904" y="20"/>
                  <a:pt x="1894" y="10"/>
                </a:cubicBezTo>
                <a:cubicBezTo>
                  <a:pt x="1884" y="0"/>
                  <a:pt x="1835" y="14"/>
                  <a:pt x="1812" y="28"/>
                </a:cubicBezTo>
                <a:cubicBezTo>
                  <a:pt x="1789" y="42"/>
                  <a:pt x="1778" y="81"/>
                  <a:pt x="1758" y="92"/>
                </a:cubicBezTo>
                <a:cubicBezTo>
                  <a:pt x="1738" y="103"/>
                  <a:pt x="1750" y="92"/>
                  <a:pt x="1690" y="94"/>
                </a:cubicBezTo>
                <a:cubicBezTo>
                  <a:pt x="1630" y="96"/>
                  <a:pt x="1466" y="105"/>
                  <a:pt x="1400" y="102"/>
                </a:cubicBezTo>
                <a:cubicBezTo>
                  <a:pt x="1334" y="99"/>
                  <a:pt x="1399" y="80"/>
                  <a:pt x="1296" y="78"/>
                </a:cubicBezTo>
                <a:cubicBezTo>
                  <a:pt x="1193" y="76"/>
                  <a:pt x="896" y="88"/>
                  <a:pt x="784" y="92"/>
                </a:cubicBezTo>
                <a:cubicBezTo>
                  <a:pt x="672" y="96"/>
                  <a:pt x="662" y="93"/>
                  <a:pt x="626" y="100"/>
                </a:cubicBezTo>
                <a:cubicBezTo>
                  <a:pt x="590" y="107"/>
                  <a:pt x="588" y="127"/>
                  <a:pt x="568" y="136"/>
                </a:cubicBezTo>
                <a:cubicBezTo>
                  <a:pt x="548" y="145"/>
                  <a:pt x="546" y="144"/>
                  <a:pt x="506" y="152"/>
                </a:cubicBezTo>
                <a:cubicBezTo>
                  <a:pt x="466" y="160"/>
                  <a:pt x="389" y="149"/>
                  <a:pt x="330" y="182"/>
                </a:cubicBezTo>
                <a:cubicBezTo>
                  <a:pt x="271" y="215"/>
                  <a:pt x="201" y="263"/>
                  <a:pt x="150" y="352"/>
                </a:cubicBezTo>
                <a:cubicBezTo>
                  <a:pt x="99" y="441"/>
                  <a:pt x="48" y="610"/>
                  <a:pt x="24" y="714"/>
                </a:cubicBezTo>
                <a:cubicBezTo>
                  <a:pt x="0" y="818"/>
                  <a:pt x="10" y="923"/>
                  <a:pt x="6" y="97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0" name="Freeform 51"/>
          <p:cNvSpPr/>
          <p:nvPr/>
        </p:nvSpPr>
        <p:spPr>
          <a:xfrm rot="5400000">
            <a:off x="8031600" y="1866240"/>
            <a:ext cx="568440" cy="795240"/>
          </a:xfrm>
          <a:custGeom>
            <a:avLst/>
            <a:gdLst/>
            <a:ahLst/>
            <a:rect l="l" t="t" r="r" b="b"/>
            <a:pathLst>
              <a:path w="1255" h="1758">
                <a:moveTo>
                  <a:pt x="1255" y="0"/>
                </a:moveTo>
                <a:cubicBezTo>
                  <a:pt x="1229" y="5"/>
                  <a:pt x="1188" y="20"/>
                  <a:pt x="1097" y="28"/>
                </a:cubicBezTo>
                <a:cubicBezTo>
                  <a:pt x="1006" y="36"/>
                  <a:pt x="808" y="48"/>
                  <a:pt x="707" y="50"/>
                </a:cubicBezTo>
                <a:cubicBezTo>
                  <a:pt x="606" y="52"/>
                  <a:pt x="545" y="40"/>
                  <a:pt x="489" y="40"/>
                </a:cubicBezTo>
                <a:cubicBezTo>
                  <a:pt x="433" y="40"/>
                  <a:pt x="409" y="30"/>
                  <a:pt x="371" y="48"/>
                </a:cubicBezTo>
                <a:cubicBezTo>
                  <a:pt x="333" y="66"/>
                  <a:pt x="295" y="110"/>
                  <a:pt x="261" y="148"/>
                </a:cubicBezTo>
                <a:cubicBezTo>
                  <a:pt x="227" y="186"/>
                  <a:pt x="207" y="214"/>
                  <a:pt x="169" y="274"/>
                </a:cubicBezTo>
                <a:cubicBezTo>
                  <a:pt x="131" y="334"/>
                  <a:pt x="61" y="407"/>
                  <a:pt x="33" y="508"/>
                </a:cubicBezTo>
                <a:cubicBezTo>
                  <a:pt x="5" y="609"/>
                  <a:pt x="2" y="779"/>
                  <a:pt x="1" y="882"/>
                </a:cubicBezTo>
                <a:cubicBezTo>
                  <a:pt x="0" y="985"/>
                  <a:pt x="17" y="1058"/>
                  <a:pt x="25" y="1126"/>
                </a:cubicBezTo>
                <a:cubicBezTo>
                  <a:pt x="33" y="1194"/>
                  <a:pt x="42" y="1253"/>
                  <a:pt x="51" y="1292"/>
                </a:cubicBezTo>
                <a:cubicBezTo>
                  <a:pt x="60" y="1331"/>
                  <a:pt x="68" y="1345"/>
                  <a:pt x="79" y="1362"/>
                </a:cubicBezTo>
                <a:cubicBezTo>
                  <a:pt x="90" y="1379"/>
                  <a:pt x="83" y="1353"/>
                  <a:pt x="115" y="1396"/>
                </a:cubicBezTo>
                <a:cubicBezTo>
                  <a:pt x="147" y="1439"/>
                  <a:pt x="235" y="1574"/>
                  <a:pt x="269" y="1620"/>
                </a:cubicBezTo>
                <a:cubicBezTo>
                  <a:pt x="303" y="1666"/>
                  <a:pt x="304" y="1661"/>
                  <a:pt x="319" y="1674"/>
                </a:cubicBezTo>
                <a:cubicBezTo>
                  <a:pt x="334" y="1687"/>
                  <a:pt x="316" y="1692"/>
                  <a:pt x="361" y="1698"/>
                </a:cubicBezTo>
                <a:cubicBezTo>
                  <a:pt x="406" y="1704"/>
                  <a:pt x="519" y="1709"/>
                  <a:pt x="589" y="1710"/>
                </a:cubicBezTo>
                <a:cubicBezTo>
                  <a:pt x="659" y="1711"/>
                  <a:pt x="715" y="1701"/>
                  <a:pt x="779" y="1702"/>
                </a:cubicBezTo>
                <a:cubicBezTo>
                  <a:pt x="843" y="1703"/>
                  <a:pt x="898" y="1705"/>
                  <a:pt x="971" y="1714"/>
                </a:cubicBezTo>
                <a:cubicBezTo>
                  <a:pt x="1044" y="1723"/>
                  <a:pt x="1164" y="1749"/>
                  <a:pt x="1215" y="175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1" name="Freeform 52"/>
          <p:cNvSpPr/>
          <p:nvPr/>
        </p:nvSpPr>
        <p:spPr>
          <a:xfrm rot="5400000">
            <a:off x="8307360" y="2219040"/>
            <a:ext cx="563400" cy="138240"/>
          </a:xfrm>
          <a:custGeom>
            <a:avLst/>
            <a:gdLst/>
            <a:ahLst/>
            <a:rect l="l" t="t" r="r" b="b"/>
            <a:pathLst>
              <a:path w="1243" h="307">
                <a:moveTo>
                  <a:pt x="226" y="15"/>
                </a:moveTo>
                <a:cubicBezTo>
                  <a:pt x="278" y="14"/>
                  <a:pt x="421" y="9"/>
                  <a:pt x="536" y="7"/>
                </a:cubicBezTo>
                <a:cubicBezTo>
                  <a:pt x="651" y="5"/>
                  <a:pt x="805" y="0"/>
                  <a:pt x="916" y="1"/>
                </a:cubicBezTo>
                <a:cubicBezTo>
                  <a:pt x="1027" y="2"/>
                  <a:pt x="1161" y="1"/>
                  <a:pt x="1202" y="11"/>
                </a:cubicBezTo>
                <a:cubicBezTo>
                  <a:pt x="1243" y="21"/>
                  <a:pt x="1188" y="40"/>
                  <a:pt x="1164" y="61"/>
                </a:cubicBezTo>
                <a:cubicBezTo>
                  <a:pt x="1140" y="82"/>
                  <a:pt x="1089" y="116"/>
                  <a:pt x="1056" y="137"/>
                </a:cubicBezTo>
                <a:cubicBezTo>
                  <a:pt x="1023" y="158"/>
                  <a:pt x="1054" y="172"/>
                  <a:pt x="966" y="189"/>
                </a:cubicBezTo>
                <a:cubicBezTo>
                  <a:pt x="878" y="206"/>
                  <a:pt x="657" y="223"/>
                  <a:pt x="528" y="237"/>
                </a:cubicBezTo>
                <a:cubicBezTo>
                  <a:pt x="399" y="251"/>
                  <a:pt x="278" y="263"/>
                  <a:pt x="190" y="275"/>
                </a:cubicBezTo>
                <a:cubicBezTo>
                  <a:pt x="102" y="287"/>
                  <a:pt x="40" y="300"/>
                  <a:pt x="0" y="30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2" name="Freeform 53"/>
          <p:cNvSpPr/>
          <p:nvPr/>
        </p:nvSpPr>
        <p:spPr>
          <a:xfrm rot="5400000">
            <a:off x="7765560" y="2216160"/>
            <a:ext cx="560520" cy="141480"/>
          </a:xfrm>
          <a:custGeom>
            <a:avLst/>
            <a:gdLst/>
            <a:ahLst/>
            <a:rect l="l" t="t" r="r" b="b"/>
            <a:pathLst>
              <a:path w="1236" h="313">
                <a:moveTo>
                  <a:pt x="218" y="296"/>
                </a:moveTo>
                <a:cubicBezTo>
                  <a:pt x="293" y="298"/>
                  <a:pt x="514" y="307"/>
                  <a:pt x="666" y="310"/>
                </a:cubicBezTo>
                <a:cubicBezTo>
                  <a:pt x="818" y="313"/>
                  <a:pt x="1038" y="313"/>
                  <a:pt x="1132" y="312"/>
                </a:cubicBezTo>
                <a:cubicBezTo>
                  <a:pt x="1226" y="311"/>
                  <a:pt x="1224" y="312"/>
                  <a:pt x="1230" y="304"/>
                </a:cubicBezTo>
                <a:cubicBezTo>
                  <a:pt x="1236" y="296"/>
                  <a:pt x="1195" y="282"/>
                  <a:pt x="1168" y="264"/>
                </a:cubicBezTo>
                <a:cubicBezTo>
                  <a:pt x="1141" y="246"/>
                  <a:pt x="1102" y="219"/>
                  <a:pt x="1068" y="196"/>
                </a:cubicBezTo>
                <a:cubicBezTo>
                  <a:pt x="1034" y="173"/>
                  <a:pt x="1031" y="144"/>
                  <a:pt x="964" y="126"/>
                </a:cubicBezTo>
                <a:cubicBezTo>
                  <a:pt x="897" y="108"/>
                  <a:pt x="756" y="98"/>
                  <a:pt x="666" y="86"/>
                </a:cubicBezTo>
                <a:cubicBezTo>
                  <a:pt x="576" y="74"/>
                  <a:pt x="515" y="67"/>
                  <a:pt x="422" y="56"/>
                </a:cubicBezTo>
                <a:cubicBezTo>
                  <a:pt x="329" y="45"/>
                  <a:pt x="178" y="31"/>
                  <a:pt x="108" y="22"/>
                </a:cubicBezTo>
                <a:cubicBezTo>
                  <a:pt x="38" y="13"/>
                  <a:pt x="22" y="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3" name="Freeform 54"/>
          <p:cNvSpPr/>
          <p:nvPr/>
        </p:nvSpPr>
        <p:spPr>
          <a:xfrm rot="5400000">
            <a:off x="7948440" y="1971720"/>
            <a:ext cx="160560" cy="163440"/>
          </a:xfrm>
          <a:custGeom>
            <a:avLst/>
            <a:gdLst/>
            <a:ahLst/>
            <a:rect l="l" t="t" r="r" b="b"/>
            <a:pathLst>
              <a:path w="355" h="360">
                <a:moveTo>
                  <a:pt x="355" y="360"/>
                </a:moveTo>
                <a:cubicBezTo>
                  <a:pt x="337" y="354"/>
                  <a:pt x="278" y="341"/>
                  <a:pt x="245" y="326"/>
                </a:cubicBezTo>
                <a:cubicBezTo>
                  <a:pt x="212" y="311"/>
                  <a:pt x="190" y="307"/>
                  <a:pt x="157" y="272"/>
                </a:cubicBezTo>
                <a:cubicBezTo>
                  <a:pt x="124" y="237"/>
                  <a:pt x="73" y="157"/>
                  <a:pt x="47" y="114"/>
                </a:cubicBezTo>
                <a:cubicBezTo>
                  <a:pt x="21" y="71"/>
                  <a:pt x="2" y="32"/>
                  <a:pt x="1" y="16"/>
                </a:cubicBezTo>
                <a:cubicBezTo>
                  <a:pt x="0" y="0"/>
                  <a:pt x="28" y="17"/>
                  <a:pt x="43" y="18"/>
                </a:cubicBezTo>
                <a:cubicBezTo>
                  <a:pt x="58" y="19"/>
                  <a:pt x="83" y="23"/>
                  <a:pt x="93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4" name="Freeform 55"/>
          <p:cNvSpPr/>
          <p:nvPr/>
        </p:nvSpPr>
        <p:spPr>
          <a:xfrm rot="5400000">
            <a:off x="8528400" y="1975680"/>
            <a:ext cx="166680" cy="158760"/>
          </a:xfrm>
          <a:custGeom>
            <a:avLst/>
            <a:gdLst/>
            <a:ahLst/>
            <a:rect l="l" t="t" r="r" b="b"/>
            <a:pathLst>
              <a:path w="368" h="351">
                <a:moveTo>
                  <a:pt x="368" y="0"/>
                </a:moveTo>
                <a:cubicBezTo>
                  <a:pt x="337" y="11"/>
                  <a:pt x="230" y="34"/>
                  <a:pt x="180" y="68"/>
                </a:cubicBezTo>
                <a:cubicBezTo>
                  <a:pt x="130" y="102"/>
                  <a:pt x="96" y="165"/>
                  <a:pt x="70" y="204"/>
                </a:cubicBezTo>
                <a:cubicBezTo>
                  <a:pt x="44" y="243"/>
                  <a:pt x="32" y="276"/>
                  <a:pt x="22" y="300"/>
                </a:cubicBezTo>
                <a:cubicBezTo>
                  <a:pt x="12" y="324"/>
                  <a:pt x="0" y="341"/>
                  <a:pt x="8" y="346"/>
                </a:cubicBezTo>
                <a:cubicBezTo>
                  <a:pt x="16" y="351"/>
                  <a:pt x="51" y="331"/>
                  <a:pt x="68" y="328"/>
                </a:cubicBezTo>
                <a:cubicBezTo>
                  <a:pt x="85" y="325"/>
                  <a:pt x="100" y="328"/>
                  <a:pt x="108" y="3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5" name="Freeform 56"/>
          <p:cNvSpPr/>
          <p:nvPr/>
        </p:nvSpPr>
        <p:spPr>
          <a:xfrm rot="5400000">
            <a:off x="8277120" y="1765080"/>
            <a:ext cx="88920" cy="387360"/>
          </a:xfrm>
          <a:custGeom>
            <a:avLst/>
            <a:gdLst/>
            <a:ahLst/>
            <a:rect l="l" t="t" r="r" b="b"/>
            <a:pathLst>
              <a:path w="194" h="853">
                <a:moveTo>
                  <a:pt x="194" y="3"/>
                </a:moveTo>
                <a:cubicBezTo>
                  <a:pt x="184" y="4"/>
                  <a:pt x="158" y="0"/>
                  <a:pt x="134" y="9"/>
                </a:cubicBezTo>
                <a:cubicBezTo>
                  <a:pt x="110" y="18"/>
                  <a:pt x="73" y="20"/>
                  <a:pt x="52" y="55"/>
                </a:cubicBezTo>
                <a:cubicBezTo>
                  <a:pt x="31" y="90"/>
                  <a:pt x="16" y="153"/>
                  <a:pt x="8" y="217"/>
                </a:cubicBezTo>
                <a:cubicBezTo>
                  <a:pt x="0" y="281"/>
                  <a:pt x="2" y="380"/>
                  <a:pt x="2" y="437"/>
                </a:cubicBezTo>
                <a:cubicBezTo>
                  <a:pt x="2" y="494"/>
                  <a:pt x="0" y="504"/>
                  <a:pt x="8" y="561"/>
                </a:cubicBezTo>
                <a:cubicBezTo>
                  <a:pt x="16" y="618"/>
                  <a:pt x="33" y="735"/>
                  <a:pt x="52" y="781"/>
                </a:cubicBezTo>
                <a:cubicBezTo>
                  <a:pt x="71" y="827"/>
                  <a:pt x="98" y="823"/>
                  <a:pt x="122" y="835"/>
                </a:cubicBezTo>
                <a:cubicBezTo>
                  <a:pt x="146" y="847"/>
                  <a:pt x="179" y="849"/>
                  <a:pt x="194" y="85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6" name="Freeform 57"/>
          <p:cNvSpPr/>
          <p:nvPr/>
        </p:nvSpPr>
        <p:spPr>
          <a:xfrm rot="5400000">
            <a:off x="8034120" y="3460680"/>
            <a:ext cx="556920" cy="792360"/>
          </a:xfrm>
          <a:custGeom>
            <a:avLst/>
            <a:gdLst/>
            <a:ahLst/>
            <a:rect l="l" t="t" r="r" b="b"/>
            <a:pathLst>
              <a:path w="1229" h="1750">
                <a:moveTo>
                  <a:pt x="26" y="0"/>
                </a:moveTo>
                <a:cubicBezTo>
                  <a:pt x="52" y="3"/>
                  <a:pt x="128" y="17"/>
                  <a:pt x="182" y="20"/>
                </a:cubicBezTo>
                <a:cubicBezTo>
                  <a:pt x="236" y="23"/>
                  <a:pt x="298" y="16"/>
                  <a:pt x="350" y="18"/>
                </a:cubicBezTo>
                <a:cubicBezTo>
                  <a:pt x="402" y="20"/>
                  <a:pt x="446" y="26"/>
                  <a:pt x="496" y="30"/>
                </a:cubicBezTo>
                <a:cubicBezTo>
                  <a:pt x="546" y="34"/>
                  <a:pt x="614" y="39"/>
                  <a:pt x="650" y="44"/>
                </a:cubicBezTo>
                <a:cubicBezTo>
                  <a:pt x="686" y="49"/>
                  <a:pt x="671" y="57"/>
                  <a:pt x="710" y="62"/>
                </a:cubicBezTo>
                <a:cubicBezTo>
                  <a:pt x="749" y="67"/>
                  <a:pt x="822" y="68"/>
                  <a:pt x="884" y="76"/>
                </a:cubicBezTo>
                <a:cubicBezTo>
                  <a:pt x="946" y="84"/>
                  <a:pt x="1037" y="74"/>
                  <a:pt x="1084" y="110"/>
                </a:cubicBezTo>
                <a:cubicBezTo>
                  <a:pt x="1131" y="146"/>
                  <a:pt x="1144" y="168"/>
                  <a:pt x="1168" y="294"/>
                </a:cubicBezTo>
                <a:cubicBezTo>
                  <a:pt x="1192" y="420"/>
                  <a:pt x="1223" y="693"/>
                  <a:pt x="1226" y="866"/>
                </a:cubicBezTo>
                <a:cubicBezTo>
                  <a:pt x="1229" y="1039"/>
                  <a:pt x="1201" y="1216"/>
                  <a:pt x="1186" y="1332"/>
                </a:cubicBezTo>
                <a:cubicBezTo>
                  <a:pt x="1171" y="1448"/>
                  <a:pt x="1151" y="1509"/>
                  <a:pt x="1134" y="1560"/>
                </a:cubicBezTo>
                <a:cubicBezTo>
                  <a:pt x="1117" y="1611"/>
                  <a:pt x="1117" y="1616"/>
                  <a:pt x="1084" y="1636"/>
                </a:cubicBezTo>
                <a:cubicBezTo>
                  <a:pt x="1051" y="1656"/>
                  <a:pt x="1008" y="1671"/>
                  <a:pt x="938" y="1682"/>
                </a:cubicBezTo>
                <a:cubicBezTo>
                  <a:pt x="868" y="1693"/>
                  <a:pt x="736" y="1696"/>
                  <a:pt x="664" y="1704"/>
                </a:cubicBezTo>
                <a:cubicBezTo>
                  <a:pt x="592" y="1712"/>
                  <a:pt x="580" y="1724"/>
                  <a:pt x="506" y="1730"/>
                </a:cubicBezTo>
                <a:cubicBezTo>
                  <a:pt x="432" y="1736"/>
                  <a:pt x="304" y="1739"/>
                  <a:pt x="220" y="1742"/>
                </a:cubicBezTo>
                <a:cubicBezTo>
                  <a:pt x="136" y="1745"/>
                  <a:pt x="46" y="1748"/>
                  <a:pt x="0" y="17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7" name="Freeform 58"/>
          <p:cNvSpPr/>
          <p:nvPr/>
        </p:nvSpPr>
        <p:spPr>
          <a:xfrm rot="5400000">
            <a:off x="8634600" y="3520080"/>
            <a:ext cx="31680" cy="112680"/>
          </a:xfrm>
          <a:custGeom>
            <a:avLst/>
            <a:gdLst/>
            <a:ahLst/>
            <a:rect l="l" t="t" r="r" b="b"/>
            <a:pathLst>
              <a:path w="68" h="250">
                <a:moveTo>
                  <a:pt x="68" y="0"/>
                </a:moveTo>
                <a:cubicBezTo>
                  <a:pt x="63" y="6"/>
                  <a:pt x="44" y="22"/>
                  <a:pt x="38" y="34"/>
                </a:cubicBezTo>
                <a:cubicBezTo>
                  <a:pt x="32" y="46"/>
                  <a:pt x="33" y="48"/>
                  <a:pt x="30" y="72"/>
                </a:cubicBezTo>
                <a:cubicBezTo>
                  <a:pt x="27" y="96"/>
                  <a:pt x="25" y="146"/>
                  <a:pt x="20" y="176"/>
                </a:cubicBezTo>
                <a:cubicBezTo>
                  <a:pt x="15" y="206"/>
                  <a:pt x="4" y="235"/>
                  <a:pt x="0" y="2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8" name="Freeform 59"/>
          <p:cNvSpPr/>
          <p:nvPr/>
        </p:nvSpPr>
        <p:spPr>
          <a:xfrm rot="5400000">
            <a:off x="7965720" y="3511440"/>
            <a:ext cx="17640" cy="115920"/>
          </a:xfrm>
          <a:custGeom>
            <a:avLst/>
            <a:gdLst/>
            <a:ahLst/>
            <a:rect l="l" t="t" r="r" b="b"/>
            <a:pathLst>
              <a:path w="40" h="256">
                <a:moveTo>
                  <a:pt x="40" y="256"/>
                </a:moveTo>
                <a:cubicBezTo>
                  <a:pt x="37" y="244"/>
                  <a:pt x="28" y="214"/>
                  <a:pt x="24" y="186"/>
                </a:cubicBezTo>
                <a:cubicBezTo>
                  <a:pt x="20" y="158"/>
                  <a:pt x="22" y="121"/>
                  <a:pt x="18" y="90"/>
                </a:cubicBezTo>
                <a:cubicBezTo>
                  <a:pt x="14" y="59"/>
                  <a:pt x="4" y="19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9" name="Freeform 60"/>
          <p:cNvSpPr/>
          <p:nvPr/>
        </p:nvSpPr>
        <p:spPr>
          <a:xfrm rot="5400000">
            <a:off x="7214400" y="3296160"/>
            <a:ext cx="1508040" cy="46080"/>
          </a:xfrm>
          <a:custGeom>
            <a:avLst/>
            <a:gdLst/>
            <a:ahLst/>
            <a:rect l="l" t="t" r="r" b="b"/>
            <a:pathLst>
              <a:path w="3332" h="100">
                <a:moveTo>
                  <a:pt x="0" y="26"/>
                </a:moveTo>
                <a:cubicBezTo>
                  <a:pt x="8" y="31"/>
                  <a:pt x="28" y="50"/>
                  <a:pt x="46" y="56"/>
                </a:cubicBezTo>
                <a:cubicBezTo>
                  <a:pt x="64" y="62"/>
                  <a:pt x="88" y="57"/>
                  <a:pt x="106" y="60"/>
                </a:cubicBezTo>
                <a:cubicBezTo>
                  <a:pt x="124" y="63"/>
                  <a:pt x="135" y="71"/>
                  <a:pt x="154" y="74"/>
                </a:cubicBezTo>
                <a:cubicBezTo>
                  <a:pt x="173" y="77"/>
                  <a:pt x="203" y="77"/>
                  <a:pt x="218" y="76"/>
                </a:cubicBezTo>
                <a:cubicBezTo>
                  <a:pt x="233" y="75"/>
                  <a:pt x="236" y="72"/>
                  <a:pt x="244" y="68"/>
                </a:cubicBezTo>
                <a:cubicBezTo>
                  <a:pt x="252" y="64"/>
                  <a:pt x="259" y="55"/>
                  <a:pt x="268" y="54"/>
                </a:cubicBezTo>
                <a:cubicBezTo>
                  <a:pt x="277" y="53"/>
                  <a:pt x="284" y="57"/>
                  <a:pt x="300" y="62"/>
                </a:cubicBezTo>
                <a:cubicBezTo>
                  <a:pt x="316" y="67"/>
                  <a:pt x="322" y="78"/>
                  <a:pt x="362" y="82"/>
                </a:cubicBezTo>
                <a:cubicBezTo>
                  <a:pt x="402" y="86"/>
                  <a:pt x="461" y="81"/>
                  <a:pt x="542" y="84"/>
                </a:cubicBezTo>
                <a:cubicBezTo>
                  <a:pt x="623" y="87"/>
                  <a:pt x="727" y="96"/>
                  <a:pt x="846" y="98"/>
                </a:cubicBezTo>
                <a:cubicBezTo>
                  <a:pt x="965" y="100"/>
                  <a:pt x="1110" y="99"/>
                  <a:pt x="1256" y="98"/>
                </a:cubicBezTo>
                <a:cubicBezTo>
                  <a:pt x="1402" y="97"/>
                  <a:pt x="1587" y="95"/>
                  <a:pt x="1722" y="92"/>
                </a:cubicBezTo>
                <a:cubicBezTo>
                  <a:pt x="1857" y="89"/>
                  <a:pt x="1958" y="82"/>
                  <a:pt x="2064" y="80"/>
                </a:cubicBezTo>
                <a:cubicBezTo>
                  <a:pt x="2170" y="78"/>
                  <a:pt x="2259" y="80"/>
                  <a:pt x="2358" y="80"/>
                </a:cubicBezTo>
                <a:cubicBezTo>
                  <a:pt x="2457" y="80"/>
                  <a:pt x="2558" y="83"/>
                  <a:pt x="2656" y="78"/>
                </a:cubicBezTo>
                <a:cubicBezTo>
                  <a:pt x="2754" y="73"/>
                  <a:pt x="2853" y="60"/>
                  <a:pt x="2948" y="50"/>
                </a:cubicBezTo>
                <a:cubicBezTo>
                  <a:pt x="3043" y="40"/>
                  <a:pt x="3160" y="24"/>
                  <a:pt x="3224" y="16"/>
                </a:cubicBezTo>
                <a:cubicBezTo>
                  <a:pt x="3288" y="8"/>
                  <a:pt x="3310" y="3"/>
                  <a:pt x="333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0" name="Freeform 61"/>
          <p:cNvSpPr/>
          <p:nvPr/>
        </p:nvSpPr>
        <p:spPr>
          <a:xfrm rot="5400000">
            <a:off x="7900560" y="3292560"/>
            <a:ext cx="1521000" cy="50760"/>
          </a:xfrm>
          <a:custGeom>
            <a:avLst/>
            <a:gdLst/>
            <a:ahLst/>
            <a:rect l="l" t="t" r="r" b="b"/>
            <a:pathLst>
              <a:path w="3356" h="115">
                <a:moveTo>
                  <a:pt x="0" y="83"/>
                </a:moveTo>
                <a:cubicBezTo>
                  <a:pt x="9" y="78"/>
                  <a:pt x="26" y="59"/>
                  <a:pt x="54" y="51"/>
                </a:cubicBezTo>
                <a:cubicBezTo>
                  <a:pt x="82" y="43"/>
                  <a:pt x="135" y="39"/>
                  <a:pt x="168" y="37"/>
                </a:cubicBezTo>
                <a:cubicBezTo>
                  <a:pt x="201" y="35"/>
                  <a:pt x="233" y="34"/>
                  <a:pt x="252" y="37"/>
                </a:cubicBezTo>
                <a:cubicBezTo>
                  <a:pt x="271" y="40"/>
                  <a:pt x="269" y="54"/>
                  <a:pt x="280" y="57"/>
                </a:cubicBezTo>
                <a:cubicBezTo>
                  <a:pt x="291" y="60"/>
                  <a:pt x="302" y="63"/>
                  <a:pt x="316" y="57"/>
                </a:cubicBezTo>
                <a:cubicBezTo>
                  <a:pt x="330" y="51"/>
                  <a:pt x="343" y="24"/>
                  <a:pt x="362" y="21"/>
                </a:cubicBezTo>
                <a:cubicBezTo>
                  <a:pt x="381" y="18"/>
                  <a:pt x="370" y="40"/>
                  <a:pt x="432" y="37"/>
                </a:cubicBezTo>
                <a:cubicBezTo>
                  <a:pt x="494" y="34"/>
                  <a:pt x="622" y="10"/>
                  <a:pt x="732" y="5"/>
                </a:cubicBezTo>
                <a:cubicBezTo>
                  <a:pt x="842" y="0"/>
                  <a:pt x="970" y="5"/>
                  <a:pt x="1092" y="5"/>
                </a:cubicBezTo>
                <a:cubicBezTo>
                  <a:pt x="1214" y="5"/>
                  <a:pt x="1326" y="0"/>
                  <a:pt x="1464" y="3"/>
                </a:cubicBezTo>
                <a:cubicBezTo>
                  <a:pt x="1602" y="6"/>
                  <a:pt x="1760" y="16"/>
                  <a:pt x="1920" y="21"/>
                </a:cubicBezTo>
                <a:cubicBezTo>
                  <a:pt x="2080" y="26"/>
                  <a:pt x="2286" y="30"/>
                  <a:pt x="2426" y="35"/>
                </a:cubicBezTo>
                <a:cubicBezTo>
                  <a:pt x="2566" y="40"/>
                  <a:pt x="2652" y="43"/>
                  <a:pt x="2760" y="51"/>
                </a:cubicBezTo>
                <a:cubicBezTo>
                  <a:pt x="2868" y="59"/>
                  <a:pt x="2973" y="70"/>
                  <a:pt x="3072" y="81"/>
                </a:cubicBezTo>
                <a:cubicBezTo>
                  <a:pt x="3171" y="92"/>
                  <a:pt x="3297" y="108"/>
                  <a:pt x="3356" y="11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1" name="Freeform 62"/>
          <p:cNvSpPr/>
          <p:nvPr/>
        </p:nvSpPr>
        <p:spPr>
          <a:xfrm rot="5400000">
            <a:off x="8130960" y="2359080"/>
            <a:ext cx="369720" cy="639720"/>
          </a:xfrm>
          <a:custGeom>
            <a:avLst/>
            <a:gdLst/>
            <a:ahLst/>
            <a:rect l="l" t="t" r="r" b="b"/>
            <a:pathLst>
              <a:path w="815" h="1412">
                <a:moveTo>
                  <a:pt x="183" y="14"/>
                </a:moveTo>
                <a:cubicBezTo>
                  <a:pt x="221" y="0"/>
                  <a:pt x="285" y="32"/>
                  <a:pt x="345" y="44"/>
                </a:cubicBezTo>
                <a:cubicBezTo>
                  <a:pt x="405" y="56"/>
                  <a:pt x="492" y="75"/>
                  <a:pt x="541" y="86"/>
                </a:cubicBezTo>
                <a:cubicBezTo>
                  <a:pt x="590" y="97"/>
                  <a:pt x="607" y="102"/>
                  <a:pt x="641" y="110"/>
                </a:cubicBezTo>
                <a:cubicBezTo>
                  <a:pt x="675" y="118"/>
                  <a:pt x="721" y="123"/>
                  <a:pt x="747" y="132"/>
                </a:cubicBezTo>
                <a:cubicBezTo>
                  <a:pt x="773" y="141"/>
                  <a:pt x="793" y="135"/>
                  <a:pt x="797" y="162"/>
                </a:cubicBezTo>
                <a:cubicBezTo>
                  <a:pt x="801" y="189"/>
                  <a:pt x="778" y="220"/>
                  <a:pt x="769" y="294"/>
                </a:cubicBezTo>
                <a:cubicBezTo>
                  <a:pt x="760" y="368"/>
                  <a:pt x="746" y="521"/>
                  <a:pt x="741" y="606"/>
                </a:cubicBezTo>
                <a:cubicBezTo>
                  <a:pt x="736" y="691"/>
                  <a:pt x="737" y="736"/>
                  <a:pt x="739" y="802"/>
                </a:cubicBezTo>
                <a:cubicBezTo>
                  <a:pt x="741" y="868"/>
                  <a:pt x="744" y="939"/>
                  <a:pt x="751" y="1002"/>
                </a:cubicBezTo>
                <a:cubicBezTo>
                  <a:pt x="758" y="1065"/>
                  <a:pt x="777" y="1136"/>
                  <a:pt x="779" y="1182"/>
                </a:cubicBezTo>
                <a:cubicBezTo>
                  <a:pt x="781" y="1228"/>
                  <a:pt x="815" y="1250"/>
                  <a:pt x="765" y="1276"/>
                </a:cubicBezTo>
                <a:cubicBezTo>
                  <a:pt x="715" y="1302"/>
                  <a:pt x="560" y="1320"/>
                  <a:pt x="481" y="1338"/>
                </a:cubicBezTo>
                <a:cubicBezTo>
                  <a:pt x="402" y="1356"/>
                  <a:pt x="344" y="1376"/>
                  <a:pt x="289" y="1382"/>
                </a:cubicBezTo>
                <a:cubicBezTo>
                  <a:pt x="234" y="1388"/>
                  <a:pt x="189" y="1412"/>
                  <a:pt x="151" y="1376"/>
                </a:cubicBezTo>
                <a:cubicBezTo>
                  <a:pt x="113" y="1340"/>
                  <a:pt x="85" y="1242"/>
                  <a:pt x="61" y="1166"/>
                </a:cubicBezTo>
                <a:cubicBezTo>
                  <a:pt x="37" y="1090"/>
                  <a:pt x="18" y="1026"/>
                  <a:pt x="9" y="918"/>
                </a:cubicBezTo>
                <a:cubicBezTo>
                  <a:pt x="0" y="810"/>
                  <a:pt x="4" y="615"/>
                  <a:pt x="9" y="516"/>
                </a:cubicBezTo>
                <a:cubicBezTo>
                  <a:pt x="14" y="417"/>
                  <a:pt x="24" y="388"/>
                  <a:pt x="39" y="324"/>
                </a:cubicBezTo>
                <a:cubicBezTo>
                  <a:pt x="54" y="260"/>
                  <a:pt x="77" y="186"/>
                  <a:pt x="101" y="134"/>
                </a:cubicBezTo>
                <a:cubicBezTo>
                  <a:pt x="125" y="82"/>
                  <a:pt x="166" y="39"/>
                  <a:pt x="183" y="14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2" name="Freeform 63"/>
          <p:cNvSpPr/>
          <p:nvPr/>
        </p:nvSpPr>
        <p:spPr>
          <a:xfrm rot="5400000">
            <a:off x="7587720" y="2869920"/>
            <a:ext cx="1457280" cy="669960"/>
          </a:xfrm>
          <a:custGeom>
            <a:avLst/>
            <a:gdLst/>
            <a:ahLst/>
            <a:rect l="l" t="t" r="r" b="b"/>
            <a:pathLst>
              <a:path w="3219" h="1479">
                <a:moveTo>
                  <a:pt x="197" y="14"/>
                </a:moveTo>
                <a:cubicBezTo>
                  <a:pt x="235" y="0"/>
                  <a:pt x="299" y="32"/>
                  <a:pt x="359" y="44"/>
                </a:cubicBezTo>
                <a:cubicBezTo>
                  <a:pt x="419" y="56"/>
                  <a:pt x="444" y="65"/>
                  <a:pt x="555" y="86"/>
                </a:cubicBezTo>
                <a:cubicBezTo>
                  <a:pt x="666" y="107"/>
                  <a:pt x="842" y="155"/>
                  <a:pt x="1026" y="170"/>
                </a:cubicBezTo>
                <a:cubicBezTo>
                  <a:pt x="1210" y="185"/>
                  <a:pt x="1437" y="178"/>
                  <a:pt x="1656" y="178"/>
                </a:cubicBezTo>
                <a:cubicBezTo>
                  <a:pt x="1875" y="178"/>
                  <a:pt x="2134" y="176"/>
                  <a:pt x="2338" y="170"/>
                </a:cubicBezTo>
                <a:cubicBezTo>
                  <a:pt x="2542" y="164"/>
                  <a:pt x="2756" y="141"/>
                  <a:pt x="2882" y="140"/>
                </a:cubicBezTo>
                <a:cubicBezTo>
                  <a:pt x="3008" y="139"/>
                  <a:pt x="3044" y="110"/>
                  <a:pt x="3096" y="164"/>
                </a:cubicBezTo>
                <a:cubicBezTo>
                  <a:pt x="3148" y="218"/>
                  <a:pt x="3172" y="368"/>
                  <a:pt x="3192" y="464"/>
                </a:cubicBezTo>
                <a:cubicBezTo>
                  <a:pt x="3212" y="560"/>
                  <a:pt x="3213" y="657"/>
                  <a:pt x="3216" y="740"/>
                </a:cubicBezTo>
                <a:cubicBezTo>
                  <a:pt x="3219" y="823"/>
                  <a:pt x="3217" y="902"/>
                  <a:pt x="3210" y="962"/>
                </a:cubicBezTo>
                <a:cubicBezTo>
                  <a:pt x="3203" y="1022"/>
                  <a:pt x="3192" y="1040"/>
                  <a:pt x="3174" y="1100"/>
                </a:cubicBezTo>
                <a:cubicBezTo>
                  <a:pt x="3156" y="1160"/>
                  <a:pt x="3134" y="1283"/>
                  <a:pt x="3104" y="1324"/>
                </a:cubicBezTo>
                <a:cubicBezTo>
                  <a:pt x="3074" y="1365"/>
                  <a:pt x="3035" y="1341"/>
                  <a:pt x="2994" y="1344"/>
                </a:cubicBezTo>
                <a:cubicBezTo>
                  <a:pt x="2953" y="1347"/>
                  <a:pt x="2936" y="1343"/>
                  <a:pt x="2858" y="1342"/>
                </a:cubicBezTo>
                <a:cubicBezTo>
                  <a:pt x="2780" y="1341"/>
                  <a:pt x="2640" y="1341"/>
                  <a:pt x="2524" y="1336"/>
                </a:cubicBezTo>
                <a:cubicBezTo>
                  <a:pt x="2408" y="1331"/>
                  <a:pt x="2290" y="1317"/>
                  <a:pt x="2162" y="1312"/>
                </a:cubicBezTo>
                <a:cubicBezTo>
                  <a:pt x="2034" y="1307"/>
                  <a:pt x="1890" y="1306"/>
                  <a:pt x="1758" y="1304"/>
                </a:cubicBezTo>
                <a:cubicBezTo>
                  <a:pt x="1626" y="1302"/>
                  <a:pt x="1519" y="1296"/>
                  <a:pt x="1368" y="1300"/>
                </a:cubicBezTo>
                <a:cubicBezTo>
                  <a:pt x="1217" y="1304"/>
                  <a:pt x="1031" y="1304"/>
                  <a:pt x="852" y="1330"/>
                </a:cubicBezTo>
                <a:cubicBezTo>
                  <a:pt x="673" y="1356"/>
                  <a:pt x="401" y="1433"/>
                  <a:pt x="296" y="1456"/>
                </a:cubicBezTo>
                <a:cubicBezTo>
                  <a:pt x="191" y="1479"/>
                  <a:pt x="247" y="1477"/>
                  <a:pt x="222" y="1468"/>
                </a:cubicBezTo>
                <a:cubicBezTo>
                  <a:pt x="197" y="1459"/>
                  <a:pt x="176" y="1450"/>
                  <a:pt x="148" y="1402"/>
                </a:cubicBezTo>
                <a:cubicBezTo>
                  <a:pt x="120" y="1354"/>
                  <a:pt x="77" y="1259"/>
                  <a:pt x="54" y="1178"/>
                </a:cubicBezTo>
                <a:cubicBezTo>
                  <a:pt x="31" y="1097"/>
                  <a:pt x="16" y="991"/>
                  <a:pt x="8" y="918"/>
                </a:cubicBezTo>
                <a:cubicBezTo>
                  <a:pt x="0" y="845"/>
                  <a:pt x="5" y="808"/>
                  <a:pt x="6" y="740"/>
                </a:cubicBezTo>
                <a:cubicBezTo>
                  <a:pt x="7" y="672"/>
                  <a:pt x="4" y="581"/>
                  <a:pt x="12" y="512"/>
                </a:cubicBezTo>
                <a:cubicBezTo>
                  <a:pt x="20" y="443"/>
                  <a:pt x="36" y="387"/>
                  <a:pt x="53" y="324"/>
                </a:cubicBezTo>
                <a:cubicBezTo>
                  <a:pt x="70" y="261"/>
                  <a:pt x="91" y="186"/>
                  <a:pt x="115" y="134"/>
                </a:cubicBezTo>
                <a:cubicBezTo>
                  <a:pt x="139" y="82"/>
                  <a:pt x="180" y="39"/>
                  <a:pt x="197" y="14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3" name="Freeform 64"/>
          <p:cNvSpPr/>
          <p:nvPr/>
        </p:nvSpPr>
        <p:spPr>
          <a:xfrm rot="5400000">
            <a:off x="8280360" y="3752640"/>
            <a:ext cx="34920" cy="682560"/>
          </a:xfrm>
          <a:custGeom>
            <a:avLst/>
            <a:gdLst/>
            <a:ahLst/>
            <a:rect l="l" t="t" r="r" b="b"/>
            <a:pathLst>
              <a:path w="76" h="1508">
                <a:moveTo>
                  <a:pt x="0" y="1508"/>
                </a:moveTo>
                <a:cubicBezTo>
                  <a:pt x="1" y="1493"/>
                  <a:pt x="0" y="1457"/>
                  <a:pt x="6" y="1418"/>
                </a:cubicBezTo>
                <a:cubicBezTo>
                  <a:pt x="12" y="1379"/>
                  <a:pt x="24" y="1353"/>
                  <a:pt x="34" y="1274"/>
                </a:cubicBezTo>
                <a:cubicBezTo>
                  <a:pt x="44" y="1195"/>
                  <a:pt x="61" y="1034"/>
                  <a:pt x="68" y="946"/>
                </a:cubicBezTo>
                <a:cubicBezTo>
                  <a:pt x="75" y="858"/>
                  <a:pt x="76" y="842"/>
                  <a:pt x="74" y="746"/>
                </a:cubicBezTo>
                <a:cubicBezTo>
                  <a:pt x="72" y="650"/>
                  <a:pt x="64" y="465"/>
                  <a:pt x="56" y="370"/>
                </a:cubicBezTo>
                <a:cubicBezTo>
                  <a:pt x="48" y="275"/>
                  <a:pt x="33" y="240"/>
                  <a:pt x="24" y="178"/>
                </a:cubicBezTo>
                <a:cubicBezTo>
                  <a:pt x="15" y="116"/>
                  <a:pt x="8" y="37"/>
                  <a:pt x="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4" name="Freeform 65"/>
          <p:cNvSpPr/>
          <p:nvPr/>
        </p:nvSpPr>
        <p:spPr>
          <a:xfrm rot="5400000">
            <a:off x="7891920" y="3974040"/>
            <a:ext cx="319320" cy="38160"/>
          </a:xfrm>
          <a:custGeom>
            <a:avLst/>
            <a:gdLst/>
            <a:ahLst/>
            <a:rect l="l" t="t" r="r" b="b"/>
            <a:pathLst>
              <a:path w="704" h="82">
                <a:moveTo>
                  <a:pt x="704" y="0"/>
                </a:moveTo>
                <a:cubicBezTo>
                  <a:pt x="678" y="8"/>
                  <a:pt x="599" y="35"/>
                  <a:pt x="548" y="46"/>
                </a:cubicBezTo>
                <a:cubicBezTo>
                  <a:pt x="497" y="57"/>
                  <a:pt x="446" y="58"/>
                  <a:pt x="398" y="64"/>
                </a:cubicBezTo>
                <a:cubicBezTo>
                  <a:pt x="350" y="70"/>
                  <a:pt x="324" y="82"/>
                  <a:pt x="258" y="82"/>
                </a:cubicBezTo>
                <a:cubicBezTo>
                  <a:pt x="192" y="82"/>
                  <a:pt x="54" y="68"/>
                  <a:pt x="0" y="6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5" name="Freeform 66"/>
          <p:cNvSpPr/>
          <p:nvPr/>
        </p:nvSpPr>
        <p:spPr>
          <a:xfrm rot="5400000">
            <a:off x="8415720" y="3982320"/>
            <a:ext cx="298440" cy="52200"/>
          </a:xfrm>
          <a:custGeom>
            <a:avLst/>
            <a:gdLst/>
            <a:ahLst/>
            <a:rect l="l" t="t" r="r" b="b"/>
            <a:pathLst>
              <a:path w="662" h="114">
                <a:moveTo>
                  <a:pt x="662" y="114"/>
                </a:moveTo>
                <a:cubicBezTo>
                  <a:pt x="644" y="106"/>
                  <a:pt x="587" y="80"/>
                  <a:pt x="554" y="66"/>
                </a:cubicBezTo>
                <a:cubicBezTo>
                  <a:pt x="521" y="52"/>
                  <a:pt x="498" y="39"/>
                  <a:pt x="464" y="30"/>
                </a:cubicBezTo>
                <a:cubicBezTo>
                  <a:pt x="430" y="21"/>
                  <a:pt x="390" y="15"/>
                  <a:pt x="352" y="10"/>
                </a:cubicBezTo>
                <a:cubicBezTo>
                  <a:pt x="314" y="5"/>
                  <a:pt x="297" y="4"/>
                  <a:pt x="238" y="2"/>
                </a:cubicBezTo>
                <a:cubicBezTo>
                  <a:pt x="179" y="0"/>
                  <a:pt x="5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6" name="Freeform 67"/>
          <p:cNvSpPr/>
          <p:nvPr/>
        </p:nvSpPr>
        <p:spPr>
          <a:xfrm rot="5400000">
            <a:off x="7679160" y="2725200"/>
            <a:ext cx="1266840" cy="718920"/>
          </a:xfrm>
          <a:custGeom>
            <a:avLst/>
            <a:gdLst/>
            <a:ahLst/>
            <a:rect l="l" t="t" r="r" b="b"/>
            <a:pathLst>
              <a:path w="2796" h="1584">
                <a:moveTo>
                  <a:pt x="2644" y="1584"/>
                </a:moveTo>
                <a:cubicBezTo>
                  <a:pt x="2663" y="1580"/>
                  <a:pt x="2736" y="1572"/>
                  <a:pt x="2758" y="1560"/>
                </a:cubicBezTo>
                <a:cubicBezTo>
                  <a:pt x="2780" y="1548"/>
                  <a:pt x="2785" y="1527"/>
                  <a:pt x="2776" y="1510"/>
                </a:cubicBezTo>
                <a:cubicBezTo>
                  <a:pt x="2767" y="1493"/>
                  <a:pt x="2735" y="1471"/>
                  <a:pt x="2706" y="1458"/>
                </a:cubicBezTo>
                <a:cubicBezTo>
                  <a:pt x="2677" y="1445"/>
                  <a:pt x="2653" y="1442"/>
                  <a:pt x="2602" y="1434"/>
                </a:cubicBezTo>
                <a:cubicBezTo>
                  <a:pt x="2551" y="1426"/>
                  <a:pt x="2453" y="1416"/>
                  <a:pt x="2398" y="1412"/>
                </a:cubicBezTo>
                <a:cubicBezTo>
                  <a:pt x="2343" y="1408"/>
                  <a:pt x="2374" y="1413"/>
                  <a:pt x="2274" y="1410"/>
                </a:cubicBezTo>
                <a:cubicBezTo>
                  <a:pt x="2174" y="1407"/>
                  <a:pt x="1961" y="1395"/>
                  <a:pt x="1800" y="1392"/>
                </a:cubicBezTo>
                <a:cubicBezTo>
                  <a:pt x="1639" y="1389"/>
                  <a:pt x="1438" y="1391"/>
                  <a:pt x="1308" y="1394"/>
                </a:cubicBezTo>
                <a:cubicBezTo>
                  <a:pt x="1178" y="1397"/>
                  <a:pt x="1105" y="1400"/>
                  <a:pt x="1022" y="1408"/>
                </a:cubicBezTo>
                <a:cubicBezTo>
                  <a:pt x="939" y="1416"/>
                  <a:pt x="889" y="1426"/>
                  <a:pt x="810" y="1442"/>
                </a:cubicBezTo>
                <a:cubicBezTo>
                  <a:pt x="731" y="1458"/>
                  <a:pt x="627" y="1487"/>
                  <a:pt x="546" y="1506"/>
                </a:cubicBezTo>
                <a:cubicBezTo>
                  <a:pt x="465" y="1525"/>
                  <a:pt x="373" y="1554"/>
                  <a:pt x="324" y="1558"/>
                </a:cubicBezTo>
                <a:cubicBezTo>
                  <a:pt x="275" y="1562"/>
                  <a:pt x="279" y="1550"/>
                  <a:pt x="250" y="1530"/>
                </a:cubicBezTo>
                <a:cubicBezTo>
                  <a:pt x="221" y="1510"/>
                  <a:pt x="177" y="1477"/>
                  <a:pt x="148" y="1438"/>
                </a:cubicBezTo>
                <a:cubicBezTo>
                  <a:pt x="119" y="1399"/>
                  <a:pt x="96" y="1353"/>
                  <a:pt x="76" y="1298"/>
                </a:cubicBezTo>
                <a:cubicBezTo>
                  <a:pt x="56" y="1243"/>
                  <a:pt x="42" y="1169"/>
                  <a:pt x="30" y="1106"/>
                </a:cubicBezTo>
                <a:cubicBezTo>
                  <a:pt x="18" y="1043"/>
                  <a:pt x="8" y="974"/>
                  <a:pt x="4" y="920"/>
                </a:cubicBezTo>
                <a:cubicBezTo>
                  <a:pt x="0" y="866"/>
                  <a:pt x="6" y="841"/>
                  <a:pt x="8" y="784"/>
                </a:cubicBezTo>
                <a:cubicBezTo>
                  <a:pt x="10" y="727"/>
                  <a:pt x="8" y="642"/>
                  <a:pt x="14" y="576"/>
                </a:cubicBezTo>
                <a:cubicBezTo>
                  <a:pt x="20" y="510"/>
                  <a:pt x="25" y="447"/>
                  <a:pt x="42" y="386"/>
                </a:cubicBezTo>
                <a:cubicBezTo>
                  <a:pt x="59" y="325"/>
                  <a:pt x="92" y="258"/>
                  <a:pt x="114" y="210"/>
                </a:cubicBezTo>
                <a:cubicBezTo>
                  <a:pt x="136" y="162"/>
                  <a:pt x="158" y="123"/>
                  <a:pt x="176" y="98"/>
                </a:cubicBezTo>
                <a:cubicBezTo>
                  <a:pt x="194" y="73"/>
                  <a:pt x="203" y="70"/>
                  <a:pt x="224" y="58"/>
                </a:cubicBezTo>
                <a:cubicBezTo>
                  <a:pt x="245" y="46"/>
                  <a:pt x="262" y="24"/>
                  <a:pt x="302" y="24"/>
                </a:cubicBezTo>
                <a:cubicBezTo>
                  <a:pt x="342" y="24"/>
                  <a:pt x="403" y="43"/>
                  <a:pt x="466" y="56"/>
                </a:cubicBezTo>
                <a:cubicBezTo>
                  <a:pt x="529" y="69"/>
                  <a:pt x="584" y="81"/>
                  <a:pt x="680" y="100"/>
                </a:cubicBezTo>
                <a:cubicBezTo>
                  <a:pt x="776" y="119"/>
                  <a:pt x="915" y="156"/>
                  <a:pt x="1042" y="170"/>
                </a:cubicBezTo>
                <a:cubicBezTo>
                  <a:pt x="1169" y="184"/>
                  <a:pt x="1273" y="179"/>
                  <a:pt x="1440" y="182"/>
                </a:cubicBezTo>
                <a:cubicBezTo>
                  <a:pt x="1607" y="185"/>
                  <a:pt x="1882" y="190"/>
                  <a:pt x="2044" y="188"/>
                </a:cubicBezTo>
                <a:cubicBezTo>
                  <a:pt x="2206" y="186"/>
                  <a:pt x="2306" y="182"/>
                  <a:pt x="2414" y="172"/>
                </a:cubicBezTo>
                <a:cubicBezTo>
                  <a:pt x="2522" y="162"/>
                  <a:pt x="2631" y="143"/>
                  <a:pt x="2692" y="128"/>
                </a:cubicBezTo>
                <a:cubicBezTo>
                  <a:pt x="2753" y="113"/>
                  <a:pt x="2768" y="99"/>
                  <a:pt x="2782" y="84"/>
                </a:cubicBezTo>
                <a:cubicBezTo>
                  <a:pt x="2796" y="69"/>
                  <a:pt x="2783" y="51"/>
                  <a:pt x="2774" y="40"/>
                </a:cubicBezTo>
                <a:cubicBezTo>
                  <a:pt x="2765" y="29"/>
                  <a:pt x="2750" y="27"/>
                  <a:pt x="2728" y="20"/>
                </a:cubicBezTo>
                <a:cubicBezTo>
                  <a:pt x="2706" y="13"/>
                  <a:pt x="2658" y="4"/>
                  <a:pt x="26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7" name="Freeform 68"/>
          <p:cNvSpPr/>
          <p:nvPr/>
        </p:nvSpPr>
        <p:spPr>
          <a:xfrm rot="5400000">
            <a:off x="7993440" y="3496320"/>
            <a:ext cx="1440" cy="75960"/>
          </a:xfrm>
          <a:custGeom>
            <a:avLst/>
            <a:gdLst/>
            <a:ahLst/>
            <a:rect l="l" t="t" r="r" b="b"/>
            <a:pathLst>
              <a:path w="1" h="168">
                <a:moveTo>
                  <a:pt x="0" y="0"/>
                </a:moveTo>
                <a:cubicBezTo>
                  <a:pt x="0" y="15"/>
                  <a:pt x="0" y="60"/>
                  <a:pt x="0" y="88"/>
                </a:cubicBezTo>
                <a:cubicBezTo>
                  <a:pt x="0" y="116"/>
                  <a:pt x="0" y="151"/>
                  <a:pt x="0" y="16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8" name="Freeform 69"/>
          <p:cNvSpPr/>
          <p:nvPr/>
        </p:nvSpPr>
        <p:spPr>
          <a:xfrm rot="5400000">
            <a:off x="7981920" y="3124080"/>
            <a:ext cx="21960" cy="95040"/>
          </a:xfrm>
          <a:custGeom>
            <a:avLst/>
            <a:gdLst/>
            <a:ahLst/>
            <a:rect l="l" t="t" r="r" b="b"/>
            <a:pathLst>
              <a:path w="50" h="210">
                <a:moveTo>
                  <a:pt x="0" y="210"/>
                </a:moveTo>
                <a:cubicBezTo>
                  <a:pt x="4" y="193"/>
                  <a:pt x="18" y="143"/>
                  <a:pt x="26" y="108"/>
                </a:cubicBezTo>
                <a:cubicBezTo>
                  <a:pt x="34" y="73"/>
                  <a:pt x="45" y="22"/>
                  <a:pt x="5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9" name="Freeform 70"/>
          <p:cNvSpPr/>
          <p:nvPr/>
        </p:nvSpPr>
        <p:spPr>
          <a:xfrm rot="5400000">
            <a:off x="7946280" y="3066120"/>
            <a:ext cx="52200" cy="139680"/>
          </a:xfrm>
          <a:custGeom>
            <a:avLst/>
            <a:gdLst/>
            <a:ahLst/>
            <a:rect l="l" t="t" r="r" b="b"/>
            <a:pathLst>
              <a:path w="116" h="310">
                <a:moveTo>
                  <a:pt x="0" y="310"/>
                </a:moveTo>
                <a:cubicBezTo>
                  <a:pt x="9" y="290"/>
                  <a:pt x="33" y="242"/>
                  <a:pt x="52" y="190"/>
                </a:cubicBezTo>
                <a:cubicBezTo>
                  <a:pt x="71" y="138"/>
                  <a:pt x="103" y="40"/>
                  <a:pt x="11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0" name="Freeform 71"/>
          <p:cNvSpPr/>
          <p:nvPr/>
        </p:nvSpPr>
        <p:spPr>
          <a:xfrm rot="5400000">
            <a:off x="7971840" y="3070080"/>
            <a:ext cx="46080" cy="96840"/>
          </a:xfrm>
          <a:custGeom>
            <a:avLst/>
            <a:gdLst/>
            <a:ahLst/>
            <a:rect l="l" t="t" r="r" b="b"/>
            <a:pathLst>
              <a:path w="102" h="214">
                <a:moveTo>
                  <a:pt x="0" y="214"/>
                </a:moveTo>
                <a:cubicBezTo>
                  <a:pt x="8" y="199"/>
                  <a:pt x="29" y="162"/>
                  <a:pt x="46" y="126"/>
                </a:cubicBezTo>
                <a:cubicBezTo>
                  <a:pt x="63" y="90"/>
                  <a:pt x="90" y="26"/>
                  <a:pt x="10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1" name="Freeform 72"/>
          <p:cNvSpPr/>
          <p:nvPr/>
        </p:nvSpPr>
        <p:spPr>
          <a:xfrm rot="5400000">
            <a:off x="7900560" y="2654280"/>
            <a:ext cx="88920" cy="88920"/>
          </a:xfrm>
          <a:custGeom>
            <a:avLst/>
            <a:gdLst/>
            <a:ahLst/>
            <a:rect l="l" t="t" r="r" b="b"/>
            <a:pathLst>
              <a:path w="196" h="196">
                <a:moveTo>
                  <a:pt x="196" y="196"/>
                </a:moveTo>
                <a:cubicBezTo>
                  <a:pt x="191" y="185"/>
                  <a:pt x="174" y="147"/>
                  <a:pt x="166" y="130"/>
                </a:cubicBezTo>
                <a:cubicBezTo>
                  <a:pt x="158" y="113"/>
                  <a:pt x="151" y="104"/>
                  <a:pt x="146" y="94"/>
                </a:cubicBezTo>
                <a:cubicBezTo>
                  <a:pt x="141" y="84"/>
                  <a:pt x="142" y="79"/>
                  <a:pt x="134" y="72"/>
                </a:cubicBezTo>
                <a:cubicBezTo>
                  <a:pt x="126" y="65"/>
                  <a:pt x="99" y="63"/>
                  <a:pt x="96" y="52"/>
                </a:cubicBezTo>
                <a:cubicBezTo>
                  <a:pt x="93" y="41"/>
                  <a:pt x="116" y="16"/>
                  <a:pt x="114" y="8"/>
                </a:cubicBezTo>
                <a:cubicBezTo>
                  <a:pt x="112" y="0"/>
                  <a:pt x="100" y="1"/>
                  <a:pt x="86" y="2"/>
                </a:cubicBezTo>
                <a:cubicBezTo>
                  <a:pt x="72" y="3"/>
                  <a:pt x="44" y="9"/>
                  <a:pt x="30" y="16"/>
                </a:cubicBezTo>
                <a:cubicBezTo>
                  <a:pt x="16" y="23"/>
                  <a:pt x="0" y="33"/>
                  <a:pt x="2" y="46"/>
                </a:cubicBezTo>
                <a:cubicBezTo>
                  <a:pt x="4" y="59"/>
                  <a:pt x="31" y="81"/>
                  <a:pt x="40" y="94"/>
                </a:cubicBezTo>
                <a:cubicBezTo>
                  <a:pt x="49" y="107"/>
                  <a:pt x="46" y="110"/>
                  <a:pt x="56" y="124"/>
                </a:cubicBezTo>
                <a:cubicBezTo>
                  <a:pt x="66" y="138"/>
                  <a:pt x="93" y="168"/>
                  <a:pt x="102" y="1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2" name="Freeform 73"/>
          <p:cNvSpPr/>
          <p:nvPr/>
        </p:nvSpPr>
        <p:spPr>
          <a:xfrm rot="5400000">
            <a:off x="8635680" y="2654280"/>
            <a:ext cx="98280" cy="98280"/>
          </a:xfrm>
          <a:custGeom>
            <a:avLst/>
            <a:gdLst/>
            <a:ahLst/>
            <a:rect l="l" t="t" r="r" b="b"/>
            <a:pathLst>
              <a:path w="217" h="216">
                <a:moveTo>
                  <a:pt x="217" y="0"/>
                </a:moveTo>
                <a:cubicBezTo>
                  <a:pt x="211" y="12"/>
                  <a:pt x="191" y="54"/>
                  <a:pt x="181" y="70"/>
                </a:cubicBezTo>
                <a:cubicBezTo>
                  <a:pt x="171" y="86"/>
                  <a:pt x="164" y="89"/>
                  <a:pt x="157" y="98"/>
                </a:cubicBezTo>
                <a:cubicBezTo>
                  <a:pt x="150" y="107"/>
                  <a:pt x="148" y="116"/>
                  <a:pt x="139" y="126"/>
                </a:cubicBezTo>
                <a:cubicBezTo>
                  <a:pt x="130" y="136"/>
                  <a:pt x="108" y="144"/>
                  <a:pt x="105" y="158"/>
                </a:cubicBezTo>
                <a:cubicBezTo>
                  <a:pt x="102" y="172"/>
                  <a:pt x="126" y="200"/>
                  <a:pt x="123" y="208"/>
                </a:cubicBezTo>
                <a:cubicBezTo>
                  <a:pt x="120" y="216"/>
                  <a:pt x="101" y="209"/>
                  <a:pt x="85" y="206"/>
                </a:cubicBezTo>
                <a:cubicBezTo>
                  <a:pt x="69" y="203"/>
                  <a:pt x="39" y="198"/>
                  <a:pt x="25" y="190"/>
                </a:cubicBezTo>
                <a:cubicBezTo>
                  <a:pt x="11" y="182"/>
                  <a:pt x="0" y="168"/>
                  <a:pt x="3" y="159"/>
                </a:cubicBezTo>
                <a:cubicBezTo>
                  <a:pt x="6" y="150"/>
                  <a:pt x="34" y="146"/>
                  <a:pt x="45" y="134"/>
                </a:cubicBezTo>
                <a:cubicBezTo>
                  <a:pt x="56" y="122"/>
                  <a:pt x="57" y="102"/>
                  <a:pt x="67" y="84"/>
                </a:cubicBezTo>
                <a:cubicBezTo>
                  <a:pt x="77" y="66"/>
                  <a:pt x="95" y="38"/>
                  <a:pt x="103" y="2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3" name="Freeform 74"/>
          <p:cNvSpPr/>
          <p:nvPr/>
        </p:nvSpPr>
        <p:spPr>
          <a:xfrm rot="5400000">
            <a:off x="8625960" y="3124080"/>
            <a:ext cx="23760" cy="96840"/>
          </a:xfrm>
          <a:custGeom>
            <a:avLst/>
            <a:gdLst/>
            <a:ahLst/>
            <a:rect l="l" t="t" r="r" b="b"/>
            <a:pathLst>
              <a:path w="54" h="214">
                <a:moveTo>
                  <a:pt x="0" y="0"/>
                </a:moveTo>
                <a:cubicBezTo>
                  <a:pt x="5" y="14"/>
                  <a:pt x="23" y="48"/>
                  <a:pt x="32" y="84"/>
                </a:cubicBezTo>
                <a:cubicBezTo>
                  <a:pt x="41" y="120"/>
                  <a:pt x="50" y="187"/>
                  <a:pt x="54" y="21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4" name="Freeform 75"/>
          <p:cNvSpPr/>
          <p:nvPr/>
        </p:nvSpPr>
        <p:spPr>
          <a:xfrm rot="5400000">
            <a:off x="8636040" y="3075120"/>
            <a:ext cx="41040" cy="133200"/>
          </a:xfrm>
          <a:custGeom>
            <a:avLst/>
            <a:gdLst/>
            <a:ahLst/>
            <a:rect l="l" t="t" r="r" b="b"/>
            <a:pathLst>
              <a:path w="92" h="296">
                <a:moveTo>
                  <a:pt x="0" y="0"/>
                </a:moveTo>
                <a:cubicBezTo>
                  <a:pt x="8" y="23"/>
                  <a:pt x="35" y="89"/>
                  <a:pt x="50" y="138"/>
                </a:cubicBezTo>
                <a:cubicBezTo>
                  <a:pt x="65" y="187"/>
                  <a:pt x="83" y="263"/>
                  <a:pt x="92" y="2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5" name="Freeform 76"/>
          <p:cNvSpPr/>
          <p:nvPr/>
        </p:nvSpPr>
        <p:spPr>
          <a:xfrm rot="5400000">
            <a:off x="8616600" y="3068640"/>
            <a:ext cx="41400" cy="98280"/>
          </a:xfrm>
          <a:custGeom>
            <a:avLst/>
            <a:gdLst/>
            <a:ahLst/>
            <a:rect l="l" t="t" r="r" b="b"/>
            <a:pathLst>
              <a:path w="92" h="216">
                <a:moveTo>
                  <a:pt x="0" y="0"/>
                </a:moveTo>
                <a:cubicBezTo>
                  <a:pt x="10" y="18"/>
                  <a:pt x="45" y="70"/>
                  <a:pt x="60" y="106"/>
                </a:cubicBezTo>
                <a:cubicBezTo>
                  <a:pt x="75" y="142"/>
                  <a:pt x="85" y="193"/>
                  <a:pt x="92" y="2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6" name="Freeform 77"/>
          <p:cNvSpPr/>
          <p:nvPr/>
        </p:nvSpPr>
        <p:spPr>
          <a:xfrm rot="5400000">
            <a:off x="8635680" y="3493800"/>
            <a:ext cx="360" cy="82800"/>
          </a:xfrm>
          <a:custGeom>
            <a:avLst/>
            <a:gdLst/>
            <a:ahLst/>
            <a:rect l="l" t="t" r="r" b="b"/>
            <a:pathLst>
              <a:path w="2" h="182">
                <a:moveTo>
                  <a:pt x="0" y="182"/>
                </a:moveTo>
                <a:cubicBezTo>
                  <a:pt x="0" y="167"/>
                  <a:pt x="0" y="120"/>
                  <a:pt x="0" y="90"/>
                </a:cubicBezTo>
                <a:cubicBezTo>
                  <a:pt x="0" y="60"/>
                  <a:pt x="2" y="19"/>
                  <a:pt x="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7" name="Freeform 78"/>
          <p:cNvSpPr/>
          <p:nvPr/>
        </p:nvSpPr>
        <p:spPr>
          <a:xfrm rot="5400000">
            <a:off x="7809840" y="3078000"/>
            <a:ext cx="1014480" cy="547560"/>
          </a:xfrm>
          <a:custGeom>
            <a:avLst/>
            <a:gdLst/>
            <a:ahLst/>
            <a:rect l="l" t="t" r="r" b="b"/>
            <a:pathLst>
              <a:path w="2237" h="1210">
                <a:moveTo>
                  <a:pt x="2205" y="1210"/>
                </a:moveTo>
                <a:cubicBezTo>
                  <a:pt x="2065" y="1201"/>
                  <a:pt x="1570" y="1164"/>
                  <a:pt x="1365" y="1154"/>
                </a:cubicBezTo>
                <a:cubicBezTo>
                  <a:pt x="1160" y="1144"/>
                  <a:pt x="1095" y="1150"/>
                  <a:pt x="973" y="1148"/>
                </a:cubicBezTo>
                <a:cubicBezTo>
                  <a:pt x="851" y="1146"/>
                  <a:pt x="723" y="1142"/>
                  <a:pt x="631" y="1142"/>
                </a:cubicBezTo>
                <a:cubicBezTo>
                  <a:pt x="539" y="1142"/>
                  <a:pt x="491" y="1145"/>
                  <a:pt x="423" y="1148"/>
                </a:cubicBezTo>
                <a:cubicBezTo>
                  <a:pt x="355" y="1151"/>
                  <a:pt x="278" y="1156"/>
                  <a:pt x="221" y="1158"/>
                </a:cubicBezTo>
                <a:cubicBezTo>
                  <a:pt x="164" y="1160"/>
                  <a:pt x="114" y="1171"/>
                  <a:pt x="83" y="1158"/>
                </a:cubicBezTo>
                <a:cubicBezTo>
                  <a:pt x="52" y="1145"/>
                  <a:pt x="50" y="1130"/>
                  <a:pt x="37" y="1080"/>
                </a:cubicBezTo>
                <a:cubicBezTo>
                  <a:pt x="24" y="1030"/>
                  <a:pt x="10" y="936"/>
                  <a:pt x="5" y="856"/>
                </a:cubicBezTo>
                <a:cubicBezTo>
                  <a:pt x="0" y="776"/>
                  <a:pt x="6" y="678"/>
                  <a:pt x="7" y="600"/>
                </a:cubicBezTo>
                <a:cubicBezTo>
                  <a:pt x="8" y="522"/>
                  <a:pt x="6" y="459"/>
                  <a:pt x="9" y="390"/>
                </a:cubicBezTo>
                <a:cubicBezTo>
                  <a:pt x="12" y="321"/>
                  <a:pt x="15" y="243"/>
                  <a:pt x="25" y="188"/>
                </a:cubicBezTo>
                <a:cubicBezTo>
                  <a:pt x="35" y="133"/>
                  <a:pt x="39" y="79"/>
                  <a:pt x="71" y="58"/>
                </a:cubicBezTo>
                <a:cubicBezTo>
                  <a:pt x="103" y="37"/>
                  <a:pt x="136" y="59"/>
                  <a:pt x="217" y="62"/>
                </a:cubicBezTo>
                <a:cubicBezTo>
                  <a:pt x="298" y="65"/>
                  <a:pt x="421" y="72"/>
                  <a:pt x="559" y="74"/>
                </a:cubicBezTo>
                <a:cubicBezTo>
                  <a:pt x="697" y="76"/>
                  <a:pt x="891" y="75"/>
                  <a:pt x="1045" y="74"/>
                </a:cubicBezTo>
                <a:cubicBezTo>
                  <a:pt x="1199" y="73"/>
                  <a:pt x="1370" y="70"/>
                  <a:pt x="1481" y="66"/>
                </a:cubicBezTo>
                <a:cubicBezTo>
                  <a:pt x="1592" y="62"/>
                  <a:pt x="1626" y="57"/>
                  <a:pt x="1713" y="50"/>
                </a:cubicBezTo>
                <a:cubicBezTo>
                  <a:pt x="1800" y="43"/>
                  <a:pt x="1916" y="34"/>
                  <a:pt x="2003" y="26"/>
                </a:cubicBezTo>
                <a:cubicBezTo>
                  <a:pt x="2090" y="18"/>
                  <a:pt x="2198" y="4"/>
                  <a:pt x="2237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8" name="Freeform 79"/>
          <p:cNvSpPr/>
          <p:nvPr/>
        </p:nvSpPr>
        <p:spPr>
          <a:xfrm rot="5400000">
            <a:off x="8299080" y="3337200"/>
            <a:ext cx="27000" cy="502920"/>
          </a:xfrm>
          <a:custGeom>
            <a:avLst/>
            <a:gdLst/>
            <a:ahLst/>
            <a:rect l="l" t="t" r="r" b="b"/>
            <a:pathLst>
              <a:path w="56" h="1110">
                <a:moveTo>
                  <a:pt x="0" y="1110"/>
                </a:moveTo>
                <a:cubicBezTo>
                  <a:pt x="7" y="1071"/>
                  <a:pt x="33" y="950"/>
                  <a:pt x="42" y="879"/>
                </a:cubicBezTo>
                <a:cubicBezTo>
                  <a:pt x="51" y="808"/>
                  <a:pt x="52" y="756"/>
                  <a:pt x="54" y="681"/>
                </a:cubicBezTo>
                <a:cubicBezTo>
                  <a:pt x="56" y="606"/>
                  <a:pt x="55" y="503"/>
                  <a:pt x="54" y="426"/>
                </a:cubicBezTo>
                <a:cubicBezTo>
                  <a:pt x="53" y="349"/>
                  <a:pt x="56" y="287"/>
                  <a:pt x="48" y="216"/>
                </a:cubicBezTo>
                <a:cubicBezTo>
                  <a:pt x="40" y="145"/>
                  <a:pt x="17" y="45"/>
                  <a:pt x="9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9" name="Rectangle 80"/>
          <p:cNvSpPr/>
          <p:nvPr/>
        </p:nvSpPr>
        <p:spPr>
          <a:xfrm>
            <a:off x="8275680" y="4140360"/>
            <a:ext cx="101520" cy="50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0" name="Rectangle 81"/>
          <p:cNvSpPr/>
          <p:nvPr/>
        </p:nvSpPr>
        <p:spPr>
          <a:xfrm>
            <a:off x="8678880" y="2987640"/>
            <a:ext cx="50760" cy="101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1" name="Rectangle 82"/>
          <p:cNvSpPr/>
          <p:nvPr/>
        </p:nvSpPr>
        <p:spPr>
          <a:xfrm>
            <a:off x="7893000" y="2971800"/>
            <a:ext cx="50760" cy="101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2" name="Rectangle 83"/>
          <p:cNvSpPr/>
          <p:nvPr/>
        </p:nvSpPr>
        <p:spPr>
          <a:xfrm>
            <a:off x="7899480" y="3429000"/>
            <a:ext cx="50760" cy="101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3" name="Rectangle 84"/>
          <p:cNvSpPr/>
          <p:nvPr/>
        </p:nvSpPr>
        <p:spPr>
          <a:xfrm>
            <a:off x="8690040" y="3429000"/>
            <a:ext cx="50760" cy="101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64" name="Picture 87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6553440" cy="136692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8"/>
          <p:cNvSpPr/>
          <p:nvPr/>
        </p:nvSpPr>
        <p:spPr>
          <a:xfrm>
            <a:off x="2340000" y="5084640"/>
            <a:ext cx="2171520" cy="495360"/>
          </a:xfrm>
          <a:prstGeom prst="wedgeRoundRectCallout">
            <a:avLst>
              <a:gd name="adj1" fmla="val 114620"/>
              <a:gd name="adj2" fmla="val -3198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司机门外把手微动开关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836280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68360" y="1413000"/>
            <a:ext cx="5256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三、</a:t>
            </a:r>
            <a:r>
              <a:rPr b="1" lang="zh-CN" sz="2600" spc="-1" strike="noStrike">
                <a:solidFill>
                  <a:srgbClr val="6600cc"/>
                </a:solidFill>
                <a:latin typeface="黑体"/>
                <a:ea typeface="宋体"/>
              </a:rPr>
              <a:t>相关车身部件的配合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门内板配合天线设计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中控台配合天线设计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3904920" cy="1600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6646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836280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68360" y="1413000"/>
            <a:ext cx="7128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三、</a:t>
            </a:r>
            <a:r>
              <a:rPr b="1" lang="zh-CN" sz="2600" spc="-1" strike="noStrike">
                <a:solidFill>
                  <a:srgbClr val="6600cc"/>
                </a:solidFill>
                <a:latin typeface="黑体"/>
                <a:ea typeface="宋体"/>
              </a:rPr>
              <a:t>相关车身部件的配合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仪表板横梁配合基站设计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8640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20800"/>
            <a:ext cx="836280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468360" y="1413000"/>
            <a:ext cx="5256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三、</a:t>
            </a:r>
            <a:r>
              <a:rPr b="1" lang="zh-CN" sz="2600" spc="-1" strike="noStrike">
                <a:solidFill>
                  <a:srgbClr val="6600cc"/>
                </a:solidFill>
                <a:latin typeface="黑体"/>
                <a:ea typeface="宋体"/>
              </a:rPr>
              <a:t>相关车身部件的配合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后隔板配合天线设计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2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68360" y="1413000"/>
            <a:ext cx="71280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四、</a:t>
            </a:r>
            <a:r>
              <a:rPr b="1" lang="zh-CN" sz="2600" spc="-1" strike="noStrike">
                <a:solidFill>
                  <a:srgbClr val="6600cc"/>
                </a:solidFill>
                <a:latin typeface="黑体"/>
                <a:ea typeface="宋体"/>
              </a:rPr>
              <a:t>操作规程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功能概述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无钥匙进入及启动系统主要包括以下几个功能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无钥匙进入司机门功能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无钥匙启动引擎功能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钥匙遗忘报警功能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遥控功能（参考公司遥控器操作流程）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无钥匙进入操作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携带智能卡，在距离司机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米之内，若四门关好且已上锁，按动门把手微动开关，四门自动解锁后，可以拉开车门进入车内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携带智能卡，在距离司机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米之内，按动门把手微动开关，若四门关好且已解锁，则四门上锁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8435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68360" y="1413000"/>
            <a:ext cx="81360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四、</a:t>
            </a:r>
            <a:r>
              <a:rPr b="1" lang="zh-CN" sz="2600" spc="-1" strike="noStrike">
                <a:solidFill>
                  <a:srgbClr val="6600cc"/>
                </a:solidFill>
                <a:latin typeface="黑体"/>
                <a:ea typeface="宋体"/>
              </a:rPr>
              <a:t>功能原理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无钥匙启动操作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携带智能卡，四门关好后，按下点火开关，顺时针旋动，操作模式如下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OFF——&gt;ACC——&gt;ON——&gt;START——&gt;ON——&gt;ACC——&gt;OFF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弹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                      ——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按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弹起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钥匙遗忘报警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离开车，锁车时，若有智能卡遗忘在车内，则喇叭报警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离开车，锁车时，若有点火旋钮未回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档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ACC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ON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则喇叭报警。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8435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发进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41080" y="1557360"/>
            <a:ext cx="7775640" cy="489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一、</a:t>
            </a:r>
            <a:r>
              <a:rPr b="1" lang="zh-CN" sz="2600" spc="-1" strike="noStrike">
                <a:solidFill>
                  <a:srgbClr val="6600cc"/>
                </a:solidFill>
                <a:latin typeface="Arial"/>
              </a:rPr>
              <a:t>基本功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34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</a:t>
            </a:r>
            <a:r>
              <a:rPr b="1" lang="en-US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被动式的无钥匙进入及启动系统（</a:t>
            </a:r>
            <a:r>
              <a:rPr b="1" lang="en-US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PEPS</a:t>
            </a:r>
            <a:r>
              <a:rPr b="1" lang="zh-CN" sz="2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）</a:t>
            </a: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简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方法无需用手按发送器按钮来锁上或打开车门，只要拥有一个有效的应答器就可方便地进出车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EPS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要求基站和应答器单元之间进行双向通讯。车辆内的基站单元发出一个低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F)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，搜寻周围的应答器。一旦车主的应答器被搜索到，该应答器随即自动回应基站单元。基站单元在收到有效的验证响应信号后打开车门。进入车里，不需插入钥匙，只要旋转按钮即可启动引擎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224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9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468360" y="1222200"/>
            <a:ext cx="849636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五、注意事项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钥匙进入及启动系统使用微弱无线电波。以下情况，智能卡和车辆之间的通信可能受到影响，且妨碍无钥匙进入及启动系统、无线遥控的正常工作：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智能卡电池电量耗尽时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靠近电视塔、发电厂、加油站、无线电台、大型显示器、飞机场或其他产生强烈无线电波或电噪干扰的设施时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携有便携式收音机、移动电话、无绳电话或其他无线通信设备时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智能卡和以下金属物体接触或被以下金属物体覆盖时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附有铝箔的卡片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B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内侧附有铝箔的香烟盒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C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带金属的钱夹或包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D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币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E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金属材料暖手器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F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类似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D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DVD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的介质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G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其他金属介质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多把智能卡同时处于车辆附近时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车辆附近有其他遥控钥匙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发射无线电波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正在使用时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智能卡和以下发射无线电波的器械同时携带时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另一车辆的智能卡或发射无线电波的遥控钥匙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B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个人电脑或个人数字助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PD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    (C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数字音响播放机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D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便携式游戏系统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如果在后车窗上粘附有金属成分遮阳膜或金属物质时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如果出现这些情况，在使用智能钥匙功能前，排除操作环境中的不利因素，或使用机械钥匙。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8435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68360" y="1413000"/>
            <a:ext cx="849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五、注意事项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系统操作注意事项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下列情况下，即使智能卡处于有效作用范围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检测区域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以内，系统仍可能无法正常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工作：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上锁或解锁车门时，智能卡过于靠近车窗或车门外把手，过于靠近地面或位置过高。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只要智能卡处于有效作用范围以内，任何人皆可上锁或解锁车辆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如果智能卡靠近车辆时使用无线遥控上锁车门，则有可能无法使用解锁功能使车门解锁。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使用无线遥控解锁车门。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8435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68360" y="1413000"/>
            <a:ext cx="8496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六、</a:t>
            </a:r>
            <a:r>
              <a:rPr b="1" lang="en-US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A2</a:t>
            </a: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零部件装配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门天线装配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8435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8360" y="3357720"/>
            <a:ext cx="374328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4841280" y="2203920"/>
            <a:ext cx="376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控台天线装配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700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自攻法兰螺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T4.2x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110120" y="3500280"/>
            <a:ext cx="50338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468360" y="1413000"/>
            <a:ext cx="84963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六、</a:t>
            </a:r>
            <a:r>
              <a:rPr b="1" lang="en-US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A2</a:t>
            </a: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零部件装配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排座椅后天线装配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8435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0" descr=""/>
          <p:cNvPicPr/>
          <p:nvPr/>
        </p:nvPicPr>
        <p:blipFill>
          <a:blip r:embed="rId1"/>
          <a:stretch/>
        </p:blipFill>
        <p:spPr>
          <a:xfrm>
            <a:off x="0" y="3284640"/>
            <a:ext cx="4707000" cy="25700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1"/>
          <p:cNvSpPr/>
          <p:nvPr/>
        </p:nvSpPr>
        <p:spPr>
          <a:xfrm>
            <a:off x="4698720" y="2132640"/>
            <a:ext cx="376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行李箱天线装配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322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自攻法兰螺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T4.2x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93" name="Picture 13" descr=""/>
          <p:cNvPicPr/>
          <p:nvPr/>
        </p:nvPicPr>
        <p:blipFill>
          <a:blip r:embed="rId2"/>
          <a:stretch/>
        </p:blipFill>
        <p:spPr>
          <a:xfrm>
            <a:off x="4643280" y="3205080"/>
            <a:ext cx="40323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68360" y="1413000"/>
            <a:ext cx="84963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六、</a:t>
            </a:r>
            <a:r>
              <a:rPr b="1" lang="en-US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A2</a:t>
            </a:r>
            <a:r>
              <a:rPr b="1" lang="zh-CN" sz="2600" spc="-1" strike="noStrike">
                <a:solidFill>
                  <a:srgbClr val="6600cc"/>
                </a:solidFill>
                <a:latin typeface="华文新魏"/>
                <a:ea typeface="宋体"/>
              </a:rPr>
              <a:t>零部件装配</a:t>
            </a:r>
            <a:endParaRPr b="0" lang="en-US" sz="26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宋体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宋体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宋体"/>
              </a:rPr>
              <a:t>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宋体"/>
              </a:rPr>
              <a:t>行李箱微动开关装配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8435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876400" cy="19195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9"/>
          <p:cNvSpPr/>
          <p:nvPr/>
        </p:nvSpPr>
        <p:spPr>
          <a:xfrm>
            <a:off x="5933160" y="12672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司机门把手微动开关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随司机门外把手总成）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98" name="Picture 11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552840" cy="742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4680000" cy="367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4"/>
          <p:cNvSpPr/>
          <p:nvPr/>
        </p:nvSpPr>
        <p:spPr>
          <a:xfrm>
            <a:off x="1066680" y="220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控制器安装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39640" y="2565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37944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ommercialScript BT"/>
                <a:ea typeface="华文隶书"/>
              </a:rPr>
              <a:t>谢谢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ar_02aa"/>
          <p:cNvPicPr/>
          <p:nvPr/>
        </p:nvPicPr>
        <p:blipFill>
          <a:blip r:embed="rId1">
            <a:lum bright="24000"/>
          </a:blip>
          <a:srcRect l="8316" t="10210" r="8522" b="11230"/>
          <a:stretch/>
        </p:blipFill>
        <p:spPr>
          <a:xfrm>
            <a:off x="839880" y="2438280"/>
            <a:ext cx="6422760" cy="2935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1080" y="1557360"/>
            <a:ext cx="7775640" cy="489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6600cc"/>
                </a:solidFill>
                <a:latin typeface="Arial"/>
              </a:rPr>
              <a:t>系统结构框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34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224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9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2"/>
          <p:cNvGrpSpPr/>
          <p:nvPr/>
        </p:nvGrpSpPr>
        <p:grpSpPr>
          <a:xfrm>
            <a:off x="3635280" y="5300640"/>
            <a:ext cx="163080" cy="326880"/>
            <a:chOff x="3635280" y="5300640"/>
            <a:chExt cx="163080" cy="326880"/>
          </a:xfrm>
        </p:grpSpPr>
        <p:sp>
          <p:nvSpPr>
            <p:cNvPr id="92" name="Oval 13"/>
            <p:cNvSpPr/>
            <p:nvPr/>
          </p:nvSpPr>
          <p:spPr>
            <a:xfrm rot="16200000">
              <a:off x="3526200" y="5409720"/>
              <a:ext cx="326880" cy="108720"/>
            </a:xfrm>
            <a:prstGeom prst="ellipse">
              <a:avLst/>
            </a:prstGeom>
            <a:noFill/>
            <a:ln w="158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29160" bIns="29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3" name="Oval 14"/>
            <p:cNvSpPr/>
            <p:nvPr/>
          </p:nvSpPr>
          <p:spPr>
            <a:xfrm rot="16200000">
              <a:off x="3580560" y="5409720"/>
              <a:ext cx="326880" cy="108720"/>
            </a:xfrm>
            <a:prstGeom prst="ellipse">
              <a:avLst/>
            </a:prstGeom>
            <a:noFill/>
            <a:ln w="158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29160" bIns="29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94" name="Text Box 19"/>
          <p:cNvSpPr/>
          <p:nvPr/>
        </p:nvSpPr>
        <p:spPr>
          <a:xfrm>
            <a:off x="3418920" y="5589360"/>
            <a:ext cx="8017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2876760" y="3851280"/>
            <a:ext cx="929880" cy="381240"/>
            <a:chOff x="2876760" y="3851280"/>
            <a:chExt cx="929880" cy="381240"/>
          </a:xfrm>
        </p:grpSpPr>
        <p:grpSp>
          <p:nvGrpSpPr>
            <p:cNvPr id="96" name="Group 21"/>
            <p:cNvGrpSpPr/>
            <p:nvPr/>
          </p:nvGrpSpPr>
          <p:grpSpPr>
            <a:xfrm>
              <a:off x="3265560" y="3851280"/>
              <a:ext cx="326880" cy="162720"/>
              <a:chOff x="3265560" y="3851280"/>
              <a:chExt cx="326880" cy="162720"/>
            </a:xfrm>
          </p:grpSpPr>
          <p:sp>
            <p:nvSpPr>
              <p:cNvPr id="97" name="Oval 22"/>
              <p:cNvSpPr/>
              <p:nvPr/>
            </p:nvSpPr>
            <p:spPr>
              <a:xfrm>
                <a:off x="3265560" y="3851280"/>
                <a:ext cx="326880" cy="109440"/>
              </a:xfrm>
              <a:prstGeom prst="ellipse">
                <a:avLst/>
              </a:prstGeom>
              <a:noFill/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29880" bIns="29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98" name="Oval 23"/>
              <p:cNvSpPr/>
              <p:nvPr/>
            </p:nvSpPr>
            <p:spPr>
              <a:xfrm>
                <a:off x="3265560" y="3904920"/>
                <a:ext cx="326880" cy="109080"/>
              </a:xfrm>
              <a:prstGeom prst="ellipse">
                <a:avLst/>
              </a:prstGeom>
              <a:noFill/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29520" bIns="295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99" name="Text Box 24"/>
            <p:cNvSpPr/>
            <p:nvPr/>
          </p:nvSpPr>
          <p:spPr>
            <a:xfrm>
              <a:off x="2876760" y="3953880"/>
              <a:ext cx="92988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ntenna 1</a:t>
              </a:r>
              <a:endParaRPr b="0" lang="en-US" sz="1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00" name="Group 26"/>
          <p:cNvGrpSpPr/>
          <p:nvPr/>
        </p:nvGrpSpPr>
        <p:grpSpPr>
          <a:xfrm>
            <a:off x="4380120" y="3862440"/>
            <a:ext cx="929880" cy="381240"/>
            <a:chOff x="4380120" y="3862440"/>
            <a:chExt cx="929880" cy="381240"/>
          </a:xfrm>
        </p:grpSpPr>
        <p:grpSp>
          <p:nvGrpSpPr>
            <p:cNvPr id="101" name="Group 27"/>
            <p:cNvGrpSpPr/>
            <p:nvPr/>
          </p:nvGrpSpPr>
          <p:grpSpPr>
            <a:xfrm>
              <a:off x="4768920" y="3862440"/>
              <a:ext cx="326880" cy="162720"/>
              <a:chOff x="4768920" y="3862440"/>
              <a:chExt cx="326880" cy="162720"/>
            </a:xfrm>
          </p:grpSpPr>
          <p:sp>
            <p:nvSpPr>
              <p:cNvPr id="102" name="Oval 28"/>
              <p:cNvSpPr/>
              <p:nvPr/>
            </p:nvSpPr>
            <p:spPr>
              <a:xfrm>
                <a:off x="4768920" y="3862440"/>
                <a:ext cx="326880" cy="109440"/>
              </a:xfrm>
              <a:prstGeom prst="ellipse">
                <a:avLst/>
              </a:prstGeom>
              <a:noFill/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29880" bIns="29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03" name="Oval 29"/>
              <p:cNvSpPr/>
              <p:nvPr/>
            </p:nvSpPr>
            <p:spPr>
              <a:xfrm>
                <a:off x="4768920" y="3916080"/>
                <a:ext cx="326880" cy="109080"/>
              </a:xfrm>
              <a:prstGeom prst="ellipse">
                <a:avLst/>
              </a:prstGeom>
              <a:noFill/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29520" bIns="295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04" name="Text Box 30"/>
            <p:cNvSpPr/>
            <p:nvPr/>
          </p:nvSpPr>
          <p:spPr>
            <a:xfrm>
              <a:off x="4380120" y="3965040"/>
              <a:ext cx="92988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ntenna 2</a:t>
              </a:r>
              <a:endParaRPr b="0" lang="en-US" sz="1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05" name="Freeform 36"/>
          <p:cNvSpPr/>
          <p:nvPr/>
        </p:nvSpPr>
        <p:spPr>
          <a:xfrm>
            <a:off x="2556000" y="3933720"/>
            <a:ext cx="4417920" cy="487440"/>
          </a:xfrm>
          <a:custGeom>
            <a:avLst/>
            <a:gdLst/>
            <a:ahLst/>
            <a:rect l="l" t="t" r="r" b="b"/>
            <a:pathLst>
              <a:path w="2783" h="307">
                <a:moveTo>
                  <a:pt x="0" y="307"/>
                </a:moveTo>
                <a:lnTo>
                  <a:pt x="1905" y="307"/>
                </a:lnTo>
                <a:lnTo>
                  <a:pt x="1905" y="0"/>
                </a:lnTo>
                <a:lnTo>
                  <a:pt x="2783" y="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6" name="Group 37"/>
          <p:cNvGrpSpPr/>
          <p:nvPr/>
        </p:nvGrpSpPr>
        <p:grpSpPr>
          <a:xfrm>
            <a:off x="5434200" y="3859200"/>
            <a:ext cx="929880" cy="381240"/>
            <a:chOff x="5434200" y="3859200"/>
            <a:chExt cx="929880" cy="381240"/>
          </a:xfrm>
        </p:grpSpPr>
        <p:grpSp>
          <p:nvGrpSpPr>
            <p:cNvPr id="107" name="Group 38"/>
            <p:cNvGrpSpPr/>
            <p:nvPr/>
          </p:nvGrpSpPr>
          <p:grpSpPr>
            <a:xfrm>
              <a:off x="5823000" y="3859200"/>
              <a:ext cx="326880" cy="162720"/>
              <a:chOff x="5823000" y="3859200"/>
              <a:chExt cx="326880" cy="162720"/>
            </a:xfrm>
          </p:grpSpPr>
          <p:sp>
            <p:nvSpPr>
              <p:cNvPr id="108" name="Oval 39"/>
              <p:cNvSpPr/>
              <p:nvPr/>
            </p:nvSpPr>
            <p:spPr>
              <a:xfrm>
                <a:off x="5823000" y="3859200"/>
                <a:ext cx="326880" cy="109440"/>
              </a:xfrm>
              <a:prstGeom prst="ellipse">
                <a:avLst/>
              </a:prstGeom>
              <a:noFill/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29880" bIns="29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09" name="Oval 40"/>
              <p:cNvSpPr/>
              <p:nvPr/>
            </p:nvSpPr>
            <p:spPr>
              <a:xfrm>
                <a:off x="5823000" y="3912840"/>
                <a:ext cx="326880" cy="109080"/>
              </a:xfrm>
              <a:prstGeom prst="ellipse">
                <a:avLst/>
              </a:prstGeom>
              <a:noFill/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29520" bIns="295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10" name="Text Box 41"/>
            <p:cNvSpPr/>
            <p:nvPr/>
          </p:nvSpPr>
          <p:spPr>
            <a:xfrm>
              <a:off x="5434200" y="3961800"/>
              <a:ext cx="92988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ntenna 3</a:t>
              </a:r>
              <a:endParaRPr b="0" lang="en-US" sz="1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11" name="Line 42"/>
          <p:cNvSpPr/>
          <p:nvPr/>
        </p:nvSpPr>
        <p:spPr>
          <a:xfrm flipV="1">
            <a:off x="1500120" y="3168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1004760" y="2843280"/>
            <a:ext cx="96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UHF Antenna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3" name="Line 55"/>
          <p:cNvSpPr/>
          <p:nvPr/>
        </p:nvSpPr>
        <p:spPr>
          <a:xfrm>
            <a:off x="2919240" y="2592360"/>
            <a:ext cx="0" cy="152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Text Box 66"/>
          <p:cNvSpPr/>
          <p:nvPr/>
        </p:nvSpPr>
        <p:spPr>
          <a:xfrm>
            <a:off x="952560" y="3902040"/>
            <a:ext cx="838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15" name="Group 68"/>
          <p:cNvGrpSpPr/>
          <p:nvPr/>
        </p:nvGrpSpPr>
        <p:grpSpPr>
          <a:xfrm>
            <a:off x="3780000" y="5229360"/>
            <a:ext cx="850320" cy="217800"/>
            <a:chOff x="3780000" y="5229360"/>
            <a:chExt cx="850320" cy="217800"/>
          </a:xfrm>
        </p:grpSpPr>
        <p:sp>
          <p:nvSpPr>
            <p:cNvPr id="116" name="Rectangle 69"/>
            <p:cNvSpPr/>
            <p:nvPr/>
          </p:nvSpPr>
          <p:spPr>
            <a:xfrm flipV="1">
              <a:off x="3921120" y="5248080"/>
              <a:ext cx="595080" cy="176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17" name="Text Box 70"/>
            <p:cNvSpPr/>
            <p:nvPr/>
          </p:nvSpPr>
          <p:spPr>
            <a:xfrm flipV="1" rot="10800000">
              <a:off x="3780000" y="5229000"/>
              <a:ext cx="8503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iCRO-SW</a:t>
              </a:r>
              <a:endParaRPr b="0" lang="en-US" sz="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18" name="Line 80"/>
          <p:cNvSpPr/>
          <p:nvPr/>
        </p:nvSpPr>
        <p:spPr>
          <a:xfrm flipH="1">
            <a:off x="2222280" y="3902040"/>
            <a:ext cx="1114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-47880" bIns="-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Line 81"/>
          <p:cNvSpPr/>
          <p:nvPr/>
        </p:nvSpPr>
        <p:spPr>
          <a:xfrm>
            <a:off x="2222640" y="3649680"/>
            <a:ext cx="2692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-47880" bIns="-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Line 82"/>
          <p:cNvSpPr/>
          <p:nvPr/>
        </p:nvSpPr>
        <p:spPr>
          <a:xfrm>
            <a:off x="4915080" y="3649680"/>
            <a:ext cx="0" cy="209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1" name="Line 83"/>
          <p:cNvSpPr/>
          <p:nvPr/>
        </p:nvSpPr>
        <p:spPr>
          <a:xfrm flipV="1">
            <a:off x="5981760" y="356364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Line 90"/>
          <p:cNvSpPr/>
          <p:nvPr/>
        </p:nvSpPr>
        <p:spPr>
          <a:xfrm>
            <a:off x="2222640" y="356400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-47880" bIns="-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Line 93"/>
          <p:cNvSpPr/>
          <p:nvPr/>
        </p:nvSpPr>
        <p:spPr>
          <a:xfrm flipV="1">
            <a:off x="3924360" y="5084280"/>
            <a:ext cx="0" cy="166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Line 94"/>
          <p:cNvSpPr/>
          <p:nvPr/>
        </p:nvSpPr>
        <p:spPr>
          <a:xfrm flipH="1" flipV="1">
            <a:off x="2336400" y="3960720"/>
            <a:ext cx="3240" cy="11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5" name="Line 97"/>
          <p:cNvSpPr/>
          <p:nvPr/>
        </p:nvSpPr>
        <p:spPr>
          <a:xfrm flipV="1">
            <a:off x="3708360" y="501300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6" name="Line 98"/>
          <p:cNvSpPr/>
          <p:nvPr/>
        </p:nvSpPr>
        <p:spPr>
          <a:xfrm flipH="1">
            <a:off x="2379240" y="5013360"/>
            <a:ext cx="1328760" cy="7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-39960" bIns="-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Line 119"/>
          <p:cNvSpPr/>
          <p:nvPr/>
        </p:nvSpPr>
        <p:spPr>
          <a:xfrm>
            <a:off x="1500120" y="347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-47880" bIns="-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8" name="Line 128"/>
          <p:cNvSpPr/>
          <p:nvPr/>
        </p:nvSpPr>
        <p:spPr>
          <a:xfrm flipH="1">
            <a:off x="2887560" y="5084640"/>
            <a:ext cx="1036800" cy="3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-44640" bIns="-446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9" name="Line 130"/>
          <p:cNvSpPr/>
          <p:nvPr/>
        </p:nvSpPr>
        <p:spPr>
          <a:xfrm flipH="1" flipV="1">
            <a:off x="1333080" y="3160440"/>
            <a:ext cx="16668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0" name="Line 131"/>
          <p:cNvSpPr/>
          <p:nvPr/>
        </p:nvSpPr>
        <p:spPr>
          <a:xfrm flipV="1">
            <a:off x="1500120" y="3160440"/>
            <a:ext cx="13824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Line 132"/>
          <p:cNvSpPr/>
          <p:nvPr/>
        </p:nvSpPr>
        <p:spPr>
          <a:xfrm flipH="1">
            <a:off x="2336760" y="5087880"/>
            <a:ext cx="55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-47880" bIns="-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Line 133"/>
          <p:cNvSpPr/>
          <p:nvPr/>
        </p:nvSpPr>
        <p:spPr>
          <a:xfrm>
            <a:off x="2887560" y="5097600"/>
            <a:ext cx="0" cy="1569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3" name="Oval 134"/>
          <p:cNvSpPr/>
          <p:nvPr/>
        </p:nvSpPr>
        <p:spPr>
          <a:xfrm>
            <a:off x="2847960" y="5051520"/>
            <a:ext cx="76320" cy="759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5760" bIns="5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4" name="Line 140"/>
          <p:cNvSpPr/>
          <p:nvPr/>
        </p:nvSpPr>
        <p:spPr>
          <a:xfrm flipV="1">
            <a:off x="2413080" y="3954240"/>
            <a:ext cx="0" cy="105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5" name="Picture 145" descr=""/>
          <p:cNvPicPr/>
          <p:nvPr/>
        </p:nvPicPr>
        <p:blipFill>
          <a:blip r:embed="rId2"/>
          <a:srcRect l="6753" t="20047" r="6723" b="14047"/>
          <a:stretch/>
        </p:blipFill>
        <p:spPr>
          <a:xfrm>
            <a:off x="1619280" y="3284640"/>
            <a:ext cx="1063440" cy="811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47"/>
          <p:cNvSpPr/>
          <p:nvPr/>
        </p:nvSpPr>
        <p:spPr>
          <a:xfrm flipV="1" rot="10800000">
            <a:off x="1692000" y="2916360"/>
            <a:ext cx="1150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7" name="Line 148"/>
          <p:cNvSpPr/>
          <p:nvPr/>
        </p:nvSpPr>
        <p:spPr>
          <a:xfrm>
            <a:off x="2268360" y="321300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8" name="Picture 149" descr=""/>
          <p:cNvPicPr/>
          <p:nvPr/>
        </p:nvPicPr>
        <p:blipFill>
          <a:blip r:embed="rId3"/>
          <a:srcRect l="14065" t="38544" r="53129" b="38544"/>
          <a:stretch/>
        </p:blipFill>
        <p:spPr>
          <a:xfrm>
            <a:off x="4788000" y="5589720"/>
            <a:ext cx="1143000" cy="59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0"/>
          <p:cNvSpPr/>
          <p:nvPr/>
        </p:nvSpPr>
        <p:spPr>
          <a:xfrm>
            <a:off x="4643280" y="63079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oor Handle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Line 151"/>
          <p:cNvSpPr/>
          <p:nvPr/>
        </p:nvSpPr>
        <p:spPr>
          <a:xfrm>
            <a:off x="4211640" y="5445000"/>
            <a:ext cx="64764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1" name="Picture 152" descr=""/>
          <p:cNvPicPr/>
          <p:nvPr/>
        </p:nvPicPr>
        <p:blipFill>
          <a:blip r:embed="rId4"/>
          <a:stretch/>
        </p:blipFill>
        <p:spPr>
          <a:xfrm>
            <a:off x="1042920" y="5589720"/>
            <a:ext cx="68112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58"/>
          <p:cNvGrpSpPr/>
          <p:nvPr/>
        </p:nvGrpSpPr>
        <p:grpSpPr>
          <a:xfrm>
            <a:off x="1640880" y="5319360"/>
            <a:ext cx="1856520" cy="796320"/>
            <a:chOff x="1640880" y="5319360"/>
            <a:chExt cx="1856520" cy="796320"/>
          </a:xfrm>
        </p:grpSpPr>
        <p:sp>
          <p:nvSpPr>
            <p:cNvPr id="143" name="Freeform 159"/>
            <p:cNvSpPr/>
            <p:nvPr/>
          </p:nvSpPr>
          <p:spPr>
            <a:xfrm rot="4359000">
              <a:off x="3042000" y="5326920"/>
              <a:ext cx="358560" cy="46584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4" name="Freeform 160"/>
            <p:cNvSpPr/>
            <p:nvPr/>
          </p:nvSpPr>
          <p:spPr>
            <a:xfrm rot="4359000">
              <a:off x="2558520" y="5568120"/>
              <a:ext cx="286560" cy="30744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5" name="Freeform 161"/>
            <p:cNvSpPr/>
            <p:nvPr/>
          </p:nvSpPr>
          <p:spPr>
            <a:xfrm rot="4359000">
              <a:off x="2147400" y="5705280"/>
              <a:ext cx="215640" cy="31212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 rot="4359000">
              <a:off x="1739160" y="5844960"/>
              <a:ext cx="143280" cy="31140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47" name="Group 153"/>
          <p:cNvGrpSpPr/>
          <p:nvPr/>
        </p:nvGrpSpPr>
        <p:grpSpPr>
          <a:xfrm>
            <a:off x="1173240" y="3641400"/>
            <a:ext cx="525240" cy="1825560"/>
            <a:chOff x="1173240" y="3641400"/>
            <a:chExt cx="525240" cy="1825560"/>
          </a:xfrm>
        </p:grpSpPr>
        <p:sp>
          <p:nvSpPr>
            <p:cNvPr id="148" name="Freeform 154"/>
            <p:cNvSpPr/>
            <p:nvPr/>
          </p:nvSpPr>
          <p:spPr>
            <a:xfrm rot="11130000">
              <a:off x="1193400" y="4995000"/>
              <a:ext cx="484200" cy="44964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9" name="Freeform 155"/>
            <p:cNvSpPr/>
            <p:nvPr/>
          </p:nvSpPr>
          <p:spPr>
            <a:xfrm rot="11130000">
              <a:off x="1292760" y="4548600"/>
              <a:ext cx="387000" cy="29664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50" name="Freeform 156"/>
            <p:cNvSpPr/>
            <p:nvPr/>
          </p:nvSpPr>
          <p:spPr>
            <a:xfrm rot="11130000">
              <a:off x="1383840" y="4097160"/>
              <a:ext cx="290880" cy="30132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51" name="Freeform 157"/>
            <p:cNvSpPr/>
            <p:nvPr/>
          </p:nvSpPr>
          <p:spPr>
            <a:xfrm rot="11130000">
              <a:off x="1475640" y="3650040"/>
              <a:ext cx="193680" cy="300600"/>
            </a:xfrm>
            <a:custGeom>
              <a:avLst/>
              <a:gdLst/>
              <a:ahLst/>
              <a:rect l="l" t="t" r="r" b="b"/>
              <a:pathLst>
                <a:path w="907" h="136">
                  <a:moveTo>
                    <a:pt x="0" y="0"/>
                  </a:moveTo>
                  <a:cubicBezTo>
                    <a:pt x="151" y="68"/>
                    <a:pt x="302" y="136"/>
                    <a:pt x="453" y="136"/>
                  </a:cubicBezTo>
                  <a:cubicBezTo>
                    <a:pt x="604" y="136"/>
                    <a:pt x="831" y="23"/>
                    <a:pt x="907" y="0"/>
                  </a:cubicBezTo>
                </a:path>
              </a:pathLst>
            </a:custGeom>
            <a:noFill/>
            <a:ln w="255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52" name="Text Box 163"/>
          <p:cNvSpPr/>
          <p:nvPr/>
        </p:nvSpPr>
        <p:spPr>
          <a:xfrm flipV="1" rot="6223800">
            <a:off x="199080" y="4487760"/>
            <a:ext cx="16560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600cc"/>
                </a:solidFill>
                <a:latin typeface="Arial"/>
              </a:rPr>
              <a:t>433.92MHz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Text Box 164"/>
          <p:cNvSpPr/>
          <p:nvPr/>
        </p:nvSpPr>
        <p:spPr>
          <a:xfrm flipV="1" rot="9011400">
            <a:off x="1979280" y="5874840"/>
            <a:ext cx="15843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9999"/>
                </a:solidFill>
                <a:latin typeface="Arial"/>
              </a:rPr>
              <a:t>125KHz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4" name="Picture 165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6804000" y="5157720"/>
            <a:ext cx="1297080" cy="1144800"/>
          </a:xfrm>
          <a:prstGeom prst="rect">
            <a:avLst/>
          </a:prstGeom>
          <a:ln w="0">
            <a:noFill/>
          </a:ln>
        </p:spPr>
      </p:pic>
      <p:sp>
        <p:nvSpPr>
          <p:cNvPr id="155" name="Line 166"/>
          <p:cNvSpPr/>
          <p:nvPr/>
        </p:nvSpPr>
        <p:spPr>
          <a:xfrm>
            <a:off x="2700360" y="4437000"/>
            <a:ext cx="4321080" cy="10796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6" name="Oval 167"/>
          <p:cNvSpPr/>
          <p:nvPr/>
        </p:nvSpPr>
        <p:spPr>
          <a:xfrm>
            <a:off x="2484360" y="4292640"/>
            <a:ext cx="21600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7" name="Text Box 168"/>
          <p:cNvSpPr/>
          <p:nvPr/>
        </p:nvSpPr>
        <p:spPr>
          <a:xfrm>
            <a:off x="7261920" y="6308280"/>
            <a:ext cx="4636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GN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8" name="Picture 169" descr=""/>
          <p:cNvPicPr/>
          <p:nvPr/>
        </p:nvPicPr>
        <p:blipFill>
          <a:blip r:embed="rId6"/>
          <a:srcRect l="6777" t="20090" r="6702" b="14040"/>
          <a:stretch/>
        </p:blipFill>
        <p:spPr>
          <a:xfrm>
            <a:off x="3780000" y="3068640"/>
            <a:ext cx="415800" cy="31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1"/>
          <p:cNvSpPr/>
          <p:nvPr/>
        </p:nvSpPr>
        <p:spPr>
          <a:xfrm flipV="1" rot="10800000">
            <a:off x="3419280" y="2203560"/>
            <a:ext cx="1150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0" name="Line 172"/>
          <p:cNvSpPr/>
          <p:nvPr/>
        </p:nvSpPr>
        <p:spPr>
          <a:xfrm flipV="1">
            <a:off x="3995640" y="249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062920" cy="48956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、逻辑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无钥匙开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司机门已闭锁，且所有车门已关闭，点火旋钮处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，按动车门把手按钮，控制器收到开关信号后发出激活低频天线命令，扫描智能卡。若检测到匹配的智能卡在车外，控制器立即发出车门解锁信号。从外面将车门锁打开，此时打开的是四个车门锁。如果没有任何一个门被打开过，则延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秒后中控锁自动重新闭锁，汽车恢复解锁前状态。车门开锁后所有转向灯闪一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无钥匙闭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司机门已解锁，且所有车门已关闭，点火旋钮处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，按动车门把手按钮，控制器收到开关信号后发出激活低频天线命令，扫描智能卡。若检测到匹配的智能卡在车外，控制器立即发出车门闭锁信号。车门闭锁后所有转向灯闪两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注意：必须在四个车门及后行李箱盖都关闭的情况下，才能进行锁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注意：如果智能卡距离车窗、门拉手距离过近，则系统可能无法工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舒适性关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您熄灭发动机并关上所有车门（包括关闭后行李箱盖）准备停放车辆时，如果用智能卡闭锁按键锁车门时，一直按住不放，您疏忽忘记关闭的车门玻璃会自动上升到顶，若期间松开按键，玻璃自动停止上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6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41440" y="1557360"/>
            <a:ext cx="8602560" cy="489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、逻辑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钥匙启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/LOCK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位按下启动按钮顺时针旋转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智能卡与控制器车内匹配成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位使旋钮弹起，继续沿顺时针方向旋转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回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/LOCK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也要按下再旋转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满足后，控制器立即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U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进行通信，验证成功后才能启动发动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上述条件必须同时满足才能保证启动成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将点火开关旋转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起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位置，并保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次最多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秒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直至发动机启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报警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若车门未锁，且车门关闭，车辆已熄火，按动车门把手按钮，若智能卡在车内，喇叭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Hz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频率鸣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，方向灯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Hz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频率闪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若车门未锁，车辆未熄火，按动车门把手按钮，若智能卡在车外，喇叭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Hz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频率鸣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，方向灯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Hz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频率闪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224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9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4560" cy="48956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、逻辑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仪表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案：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点火旋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位，按下旋钮，若存在匹配的钥匙，仪表显示绿色图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；若     不存在匹配的钥匙，仪表显示红色图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；当放开旋钮时，红色和绿色仪表显示灯均熄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点火旋钮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转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位时，若存在匹配的钥匙，仪表显示绿色图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；若不存在匹配的钥匙，仪表显示红色图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。当点火旋钮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转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位时，红色和绿色仪表显示灯均熄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遥控开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闭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智能卡在控制器的车外无障碍遥控距离不超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在点火旋钮处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时，若车门已锁，按下智能卡的开锁按钮，从外面将车门锁打开，此时打开的是四个车门锁。当使用遥控开锁时，如果没有任何一个门被打开过，则延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秒后中控锁自动重新闭锁，汽车恢复解锁前状态。车门开锁后所有转向灯闪一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在点火旋钮处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档时，若车门未锁，且车门关闭，按下智能卡的闭锁按钮，将车门锁上（包括四个车门）。完成闭锁后所有转向灯闪两次。当遥控锁车动作超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秒时，所有车门自动闭锁，且四个门窗自动关闭，方向灯闪两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注意：必须在四个车门及后行李箱盖都关闭的情况下，才能进行锁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1080" y="1557360"/>
            <a:ext cx="7775640" cy="489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二、方案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224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9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、控制器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新魏"/>
              </a:rPr>
              <a:t>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KE: Central lock /unloc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KE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钥匙进入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KG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钥匙启动引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诊断与网络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1080" y="1557360"/>
            <a:ext cx="7775640" cy="489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lnSpc>
                <a:spcPct val="100000"/>
              </a:lnSpc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控制器机械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9995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820800"/>
            <a:ext cx="7643880" cy="5284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钥匙进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键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775640" cy="48960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419040" indent="0">
              <a:lnSpc>
                <a:spcPct val="100000"/>
              </a:lnSpc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控制器集成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3184560" cy="391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1384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5:59:26Z</dcterms:created>
  <dc:creator>shenzhao</dc:creator>
  <dc:description/>
  <dc:language>en-US</dc:language>
  <cp:lastModifiedBy>Windows User</cp:lastModifiedBy>
  <dcterms:modified xsi:type="dcterms:W3CDTF">2021-05-20T06:59:54Z</dcterms:modified>
  <cp:revision>1359</cp:revision>
  <dc:subject/>
  <dc:title>幻灯片 1</dc:title>
</cp:coreProperties>
</file>